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26D9B-AC99-4A3D-8A39-F1AB9E5A9DD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62D45-5665-49D4-9651-F87E3363972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8058B-FB99-4EBB-990E-7BF88A82409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A9983-61A2-4040-868F-1D530D0A9DA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A88D1-0EB3-4DA5-A362-17821BA4A41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D1158-9F84-4D16-9C1D-4ADA9AC99F7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5230E-80AD-4D2A-ABFB-2765310F120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979CC-85BC-4C2C-8423-5B36D1DDF88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B3919-B09D-4434-9951-9A9F967198D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CB595-1780-4D42-896A-6D7FAB22930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F9A4A-034D-4FC5-B41F-779980554F4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77277-2339-4F2B-A9FD-E39457A6962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1FEF3-B6F7-455C-8847-5045D37C344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6987F-CF23-43C1-AF90-931E281BC95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7E51F-8186-419C-B04C-A2A61DA9E75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930E2-CEE7-47B6-B0C8-7D4AA293FDC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F1B25-141E-4509-AE79-7403439F886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91EF7-1440-478D-8585-D14F43BA285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7315F-C708-4491-B59F-4E22DE11829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E0DA0-A10C-4819-98A2-9CFE830E44D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6F36D-C249-4C69-ABF1-24E14E5F5E7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342DF-6DC4-4CB5-B8DA-75FC5874470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08B25-C38E-45F8-928E-5874A01059E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2080C-A0DF-427F-A4FB-A7C0886473F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8F7BF-8193-4D93-9EC9-74F379568E9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285E6-92FB-4B52-9648-361F3916129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3601B-8A5E-4877-B86E-AE1412FDC47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82943-5FAD-4D2B-8E22-66BFB1F5B35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0A30FD-4E31-4236-9119-AEF26647E8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96CE03-D53A-454D-9692-C0C937B30D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1B60A7-E75F-409C-B493-5B0E7EDB0B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6A16E2-814B-4146-9579-A06610E0C6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C0CD7D-6F8F-40BE-BE44-C108386E6B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359000-07B2-4DEB-8588-5DD180075B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8DC384-BA1E-472D-8726-1A8B34AC3B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A3EE27-A883-4AD7-8CE4-C3B0C455AE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F74CB8-AA25-4F4B-9E47-168D979B72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0CCFF5-1A0F-4242-8261-0D895FA015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DF09C8-DCFB-45B1-BC88-93251ACBE3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7A8ADE-737F-469C-B115-1D1D0936DF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01BA4-D2F9-4FE6-85A6-349705934936}" type="datetime">
              <a:rPr b="0" lang="nl-NL" sz="1200" spc="-1" strike="noStrike">
                <a:solidFill>
                  <a:srgbClr val="898989"/>
                </a:solidFill>
                <a:latin typeface="Calibri"/>
              </a:rPr>
              <a:t>28-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79B5B-E9FE-4244-8739-EFD8EEC1FF3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C3215-B9CF-4E25-B43A-F6DC11B8BE7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6C36F-6ED9-4ECA-9C73-0551AA72B73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538FB-B0B2-4913-A8D4-74F8D1011D0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B81A9-DBDF-4DF0-A636-A684F91A866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66583-1066-4DDF-80CC-EF7AFA75756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3B481-EB38-43F4-A9AE-1288DE92106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3BA2E-0CD3-49E0-BC19-FFB7A894AEA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2DEB7-5757-481A-A1D1-7ADD41F2419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179A5-D457-4558-B4CC-88A29BA3A08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3CF45-0DFF-4FE6-A371-1E98FDE65DA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6B5AA-C13F-423F-80E5-90CAD7AD48C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6933E-1D3B-4C61-8141-A9E7EBABD7E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DCF6B-835B-475A-8B20-4458ECC0CB0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D18A0-9011-4471-A695-42C4258CB80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4180F-184E-4E3D-9AF3-D217AF67FE3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BBC46-C97E-4BFE-BA6C-8CDB2DDC5AB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08BC7-DFE9-482C-8017-E4DC1C1F40F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02628-2007-4EC5-8080-C9F3AFB1C8B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CB16A-C538-4E61-BBDA-6C980D1C956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273BB-220C-4C63-B064-470302028DF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22265-1AF5-409F-9570-5F69705BA09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FB202-3458-4A7A-8BA5-849A5DD9F7B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22123-D577-423C-A4ED-6DCF4CD671B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5E558-910B-4F23-B47D-C51E148B933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10BDE-8187-445B-93A9-9E9005850D0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4E627-1D1C-4BCC-85C9-4DE7EDCA222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A8B92-CCF2-43EF-9E5E-4F5ABB0F86A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C8BF6-D7DD-4EBA-A195-D3212E6A4D1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242A9-F1C3-49E3-8C6E-5C404D43E27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