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A91F02-6D31-4E47-888A-AF765BF1F56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E15E55-2547-4612-957B-C1CAFBCED80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753EA8-D54E-4622-9946-A610222483D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836531-694C-470B-84F9-7235D47E639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DBCF4C-8BE2-48A4-9022-E10B74E6FCC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B2348C-E313-4DF8-80A5-6874C4DF215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38449C-BC9F-4AA8-AEFD-3BA4E2EA4E2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744E48-67E8-40B6-BE43-5CC066C9AFD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75E06F-34D1-4F83-92BB-A68A705A1C7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AB27DF-DA80-4949-9520-08677A010DC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FE569D-76CF-464F-8FCA-D50EAAA01C9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F23BC8-F351-4231-849A-4C7787512C5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D8CEDB-0347-46ED-9FF0-9728C3200FD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CDDAE7-8601-482C-8831-552FC98F7B4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F5C568-428F-4CBA-9668-DB2AFA97400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3A6F88-C68C-4370-81E2-554FF361983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C4D780-71E9-4948-A487-950C7B1BAB2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DE97CE-D711-46B9-9D2C-84D9022FC8E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B0C4A3-65B5-4FA3-852B-6725A11A52B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A5C98F-E235-4AAB-B45B-755C44B72E9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0E06CF-02DB-42F3-B458-BA7BA200EDB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80043A-EF16-4F79-950F-9ECBB4B6535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5AFEB4-8051-4E24-BC0A-B9A98C690DB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C22FB4-20A8-40F2-A204-98449E79E33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FD39E6-13EB-4C7D-B1B1-5FA764C4B52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325AF2-F256-4FB7-B69C-15C2851F6C2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56274F-6D8E-4683-844F-6B7239B3205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0279AB-3843-4534-ABA7-29B795F9F38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483A7C-2027-4215-994E-BC9A41F7E2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A969F9-333D-44E1-A741-212FE44A63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E52866-05A5-4866-A5F2-6005B18EE2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D8862F-23F9-44C3-9E7D-78855541E2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8F3B62-3C62-42A1-B611-F173FCA5E5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C3C0BA-6ACA-4F63-A0FD-7C3AEB837E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9110C0-0646-48A3-B9EF-A069FC9588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D16CA9-1400-4BA2-996C-0BA04A91CE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6CCC42-1E23-48A6-AE90-197B1D4AC6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3330AF-8E27-4D20-BE70-58E74978AC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03602B-14C7-459C-8FBF-F7196F7FD0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86A6D5-F4BB-4A2A-B404-691BA86B70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67E363-ACEC-4C32-81E5-02AD6A29A976}" type="datetime">
              <a:rPr b="0" lang="nl-NL" sz="1200" spc="-1" strike="noStrike">
                <a:solidFill>
                  <a:srgbClr val="898989"/>
                </a:solidFill>
                <a:latin typeface="Calibri"/>
              </a:rPr>
              <a:t>31-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740C59-6ED4-4DB3-AA1E-3E5614F577B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684547-0795-4FD0-856E-D495DCEDE24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14A5E6-4CE2-4063-92A8-B1AA8C066FD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099592-F104-405F-B2BF-C2AC4D1D08C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2521CC-7761-4151-BF87-B1F26452409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088B85-80DA-465C-98A0-1DBF617D98E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924220-751A-41CF-BAF0-D4D17110378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CA4856-1BAD-4FDE-824C-FA452A3368F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91CA9E-75E6-4AA6-BBD5-A905BBF5928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EED430-AF04-4E6C-BA2F-0BBCE14B14F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F0FEED-A96C-42C0-8B43-3C4D177EA6D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E55280-DC10-4DD9-8E39-E123D0E1B8C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38FDCC-1D2D-445B-ABB2-B1C728938CB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25E7E9-3B1D-4842-827C-387078D2DDD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FF1F54-AD50-4B04-BB77-EFD15EB4BAB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02F29D-74BB-4A3A-9745-3820C3772E4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EC48F9-AE05-473A-9AB5-44A98959D38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8F9782-0775-47F1-A4A7-DAE67C41646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367327-CF0C-4530-9DF2-E6EFC604726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F72315-2C19-4860-9008-E97C5148DC9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08F912-93FC-4E90-BF4A-E563291980F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A2EC84-6FE9-4CBF-81AE-05501EB2BC3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CD79EE-9790-4359-9CB1-8D31B0C23D6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EFBDC8-03A4-479B-BF9C-996C094758B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AD73DF-B39E-42E9-81F1-1AC2A6525AF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D1534E-8102-4AD4-9CA4-2FC09428B05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83E8CB-0F9F-4B37-A8CA-ED123C31042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70D4D5-440B-432B-A94D-30D2348BCD7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4813ED-E5E4-4C9B-9623-74F42E9CD59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692803-6262-4CC1-80E0-5E688F6F54A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