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5A9ADA-B659-429E-B748-E08B7E8CE3C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1108ED-F10B-4991-9484-A1D52D9CE89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7A79C5-1F22-462E-A08E-7E6FA2F470B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555740-A30D-4E53-A69B-A9374500B56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6EE00D-310D-496F-94D9-D585BDCF8DA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8C1457-B38E-414C-ADCD-E1E9CF8ED6A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55D940-F816-4C86-B5DE-7DA96530CEF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CB6B97-9B91-4B27-A760-060E769A1E5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8063A6-910A-4C41-9D6D-63D1E2E5CAE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8978C0-7E2F-4F0A-B134-B97433FA0E6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76783B-CC25-4A8D-A0F5-058EEC41582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71E918-0562-4CB3-A517-0FBAA598E02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8F3589-5DAB-491D-840A-245A77261F1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9C9DA9-7F5A-4E30-86E9-F1E13B6FD08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E1EC82-2C2C-4589-9F74-EEB7647278D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CDA6CD-3EC1-4B63-BD39-7CBCF89738B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F5EE0F-0291-476E-B498-9212A827041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61F8B5-BC61-4EE6-ABAB-047E6653C11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243EBC-751D-4257-92B0-BA91A3CA117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321311-EDEF-4715-83FD-7F449F62784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0D62DE-7DCB-4E81-9E70-EB4CC3A307E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F78A6F-86A5-47D5-8BBA-FEC238BB854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AAA17E-BB5A-4AC1-9883-78CF2BCCDEC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6E5A4F-3D90-4128-AF10-E96B0DCC07B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264D6F-1AF7-490C-86EA-A20CD675CF1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21EEE8-DE87-41F2-A175-B17D89D0F2A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C4CCFB-FC96-4A04-BF4D-F15BCAEADF3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3F67CE-6A74-4395-88C5-DF1182BB1DB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377EB5-12DB-4A07-A674-AFBB1C4CB4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B09A50-8226-42A7-900E-540F2C5386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D29832-728B-4137-8FC6-EDFA5B7517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CC691E-9B4B-49FF-8379-884CE4C4D0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879A10-BE2E-4B7D-82DC-3C926D7C3B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2A4D0B-FC0E-4E38-8A25-7EA893AE12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00C2E1-CBF1-4CBE-A471-2DC7098E4E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D1BE65-3654-4135-BA3D-F4B3697007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06214E-8AE2-4F5E-BB5E-70C8853F39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591C5B-CDE7-49FC-AE20-F4F67939A4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ADCDE6-FF77-4E9B-81EC-A04D692C20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8AF72A-07A7-45CC-BDA4-BB3A07E075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05648A-1C75-479D-8352-D31E4E9CB08E}" type="datetime">
              <a:rPr b="0" lang="nl-NL" sz="1200" spc="-1" strike="noStrike">
                <a:solidFill>
                  <a:srgbClr val="898989"/>
                </a:solidFill>
                <a:latin typeface="Calibri"/>
              </a:rPr>
              <a:t>30-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F7AE08-B64E-49F5-B7F1-E60E666C4ED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DBEB40-D090-4479-810F-330BBCCCF19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9DD5B4-C9A0-4C7D-814B-36CEFDD8BDA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1F8B76-18F2-4859-B425-D5161D46EC0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FEB26B-EDEF-4F84-81DC-365386EEFE6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8E0BA5-BD59-4A19-8DA4-3A69D6E968D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0511A7-5508-4751-BDE1-F8887529616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EB515C-DE26-4B81-B7FB-EC1B0DFC217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370C44-54C8-4645-8C2E-A94291B7C58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37D68A-EF46-490D-9834-F50B0C6879E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8B6CF4-79E3-4256-B120-1E7109C8BD8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C2F417-4687-47AF-BC67-99247D51675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1660B6-8C0D-44B6-A2CC-1E789115132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7791F8-36CF-443F-9CE1-1F7D271ED02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D73038-0A1D-4CEE-A8C8-6009A18B490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2EC6BD-884A-49A0-97BB-7891D77E0A5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CF2617-EC1B-4BB4-A6EF-0BE41747C41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80F0DE-1EF8-4EC6-BE66-4F3BF341F89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3F046A-C00D-4814-B8C2-F4EF0890D8B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9140E2-4AB0-4D07-B050-94F6DC81F27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31ED67-2A18-46FC-9078-F5CA02A9A1E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F24100-D9A3-4373-8626-E7A62B420E0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298E98-A137-4454-9BB6-678EE58F958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E8BB48-A6D5-4AEB-B9D1-53BD84B63E0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2071E0-46BC-41D0-A27C-798D81303FC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28785C-DF43-4F8F-9975-9F066833C4B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ECFDDF-B9C3-48D1-AE74-52583217A3B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170A9C-4CAB-4193-99DE-D1FC212108E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8FA94F-03F3-4A2B-8383-70B651F61B0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759638-3777-4A5F-B85B-C6577397028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