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9044-9B15-4057-ADA6-4D968EE706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CF03-9C98-443F-8BFF-578271013B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8738-2F12-4A19-B221-BD0DB58745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34C9-8187-48EB-A245-14BF9C8FD0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84D7-4865-4446-A7B3-7EF8F2F798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7F29-DD86-4528-B3E3-CAB239971C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A5F2-CA46-4BDD-8C2E-72F357FFA7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B355-32D1-4BAE-99D7-CB1C2D5D50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4F09-4BD3-48EC-928C-1DE192D7D3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A2E2-4544-4EB5-8851-5A12CC6F3B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A21A-54C0-4F3C-8B2E-5D7220523C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9768-A9E3-47B8-8CFB-3EA48952AA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E949-3026-42BE-BE12-10B1B86CA5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678E-8390-4EBD-8A85-7E39F90669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96B1-1D83-4C6F-B5E7-3133EE4595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E0EA-5322-472D-8558-AE2DA29EE1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0CED-D5EE-400C-B984-E71B0B05EE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4B6D-84B1-4A0C-8389-463B289EC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C624-23FB-437C-A9DB-4E7641DF61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0FA3-E0F7-40ED-8EF5-4429C871D9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5766-835A-4308-ACEF-03C7345B6F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E86E-F309-4020-9E6A-24D61C85D2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1A3A-0EE8-4AE2-9553-C83DA45B71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0D53-3C1C-4360-8EF9-15939EB5D6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00AB-5CB1-4BAB-8AB1-347C9083B6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22D5-32E0-4C11-AC37-C35E932A73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FA93-636B-4BD4-92D5-5044385B16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9421-6F11-4331-BE04-534D4A03E0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FF4C3-3651-48A1-AB35-A60232F00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24487-E5C8-4A5F-A09D-90F65EE4E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4103A-161C-4041-8EF3-7B0DFDD87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68F5A-6729-44E0-9119-A71422A90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E31E4-270F-4F4C-A8DD-0A5CE89AF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A008B-D46F-4468-B3A0-4150563D5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30108-E87B-4DAF-8960-9C742ACA9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8579E-6251-422A-8916-9A1FE7540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3AFB6-BC1B-4B3F-8B66-D9D1051FD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B4129-2788-46DD-86A7-236896E2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3F305-BE74-4D30-B7CA-C065F120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51A9-3F31-46FE-80B0-027477F34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74B3-5D22-4253-9D33-B9C4FDCA94EB}" type="datetime">
              <a:rPr b="0" lang="nl-NL" sz="1200" spc="-1" strike="noStrike">
                <a:solidFill>
                  <a:srgbClr val="898989"/>
                </a:solidFill>
                <a:latin typeface="Calibri"/>
              </a:rPr>
              <a:t>29-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79A9-4EEB-4D18-9B1E-768D25FD11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8A35-F543-4C72-A83B-CA7C4B0842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5924-97B6-4CFC-B2AC-8FFF7D96AB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252D-C1D2-46DB-8AA8-DB770AF62D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71E4-6C9B-452E-AC09-09E296C50F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471F-E316-4DA5-845C-56EBDBE0AC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9F95-0AD0-4642-8287-38260CC03D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FBDC-6A6E-4B12-B320-820CEA46C3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A641-6BEC-4EF0-9A46-A9F3D486D1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2F09-03AE-4D61-B3DE-2F2F8B3FBA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D15B-1042-4C28-8143-188E8C43DB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1A7D-3344-4C6F-9D96-C56ED3A482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15CB-E20D-40DA-84C5-EB06FF5C11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7E1F-7A3B-4DE3-9A66-7C3EC24633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437F-CA93-44DF-8181-CDFAA98EA7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F25D-42F4-435E-A368-51FC9E0132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AB33-256E-4928-936A-571133BE60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5F06-1EBE-4724-B2FD-42FC7644A1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EF36-F342-4674-9DC7-A349DA2DD6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A4C6-21E6-481F-ABD6-D59BB48868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66EA-9740-45CD-A71B-E6608AA431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49BD-5FCC-4D70-8ABE-817872B4AD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ED4F-0B23-4AD3-B190-9F38735DD9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9DEA-8E40-456D-AFE6-1E2F58F833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E027-A9B8-43CA-91E3-30218463B8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DC92-FB38-4614-9307-E47659BF26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5D98-72CA-455F-86DE-D4820BEEC9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A974-6D34-45D7-8C22-2FAF752C8F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4959-6A3C-4E8A-AC54-21A9539D6B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A2D2-796F-466F-BCCA-4F1CC862E1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