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C77D4E-129A-477B-9B78-D292BE5E911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F42033-C048-4C71-8051-9070CBD142B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A6F684-23CD-41F6-A5B2-40EC7D0A484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973DC9-C46D-4881-A2D2-4AC870FD0CC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842207-BBF0-4358-8DB4-753B31B7867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283777-A6A3-4D0D-91BE-BC5CC970999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90EB2B-B7A3-4D1C-8764-D1D8CF071C3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CB9371-647E-4385-AD03-766AEA85806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96BDFB-BD7D-41EB-842E-FB1C45E370D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787516-D82C-46E5-A5DE-4A35C12BBC3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404EC6-75A2-4E91-9765-4A18B43C371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6E3D3D-7922-4DBD-AC2A-3BF268864D2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C1D2BA-2B14-451C-AC3F-29B83130865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BBE3F1-B214-4F6F-876D-D426415CC13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7CD7A1-FB1C-44CA-BC61-37FBFB756B7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CAB4AC-D792-45D6-9EB9-B3B3E9A18B9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AFEA62-BC8B-4EF4-9CB6-71CC3DB1F6D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957262-D712-4457-AE04-F4902F901A7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6424A2-1719-4525-9FDB-9096A4304C5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00C519-3DB3-4FA6-B3D2-48B0EB0D802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9290C1-0CB4-40AE-A43D-35096DB23B4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478894-B115-4746-9731-2BDBC88F0D2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DF0BB2-CD69-47B1-9A93-BEC1E1973B2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A68758-2298-4CAC-89BF-E287D89307C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239D56-A3F1-4ABD-9288-6E357EE2CA5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AB4887-150A-470D-B3FB-62B048E3A1B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9302AB-5778-4B1C-840D-33B98B46EDA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1428B1-8350-4F81-B552-CE20648485C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940633-F2A8-402E-A10A-919F5D1E7C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62A865-4767-4038-ABC9-3B758A6440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E473E7-255F-4F31-A5A5-598C1616F8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707FAE-FF7F-4FE0-8DEE-F349E160BF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79E531-D7E3-42EB-B037-798331AF7C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91EB6B-3961-4081-99D3-873B10605E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293FF0-A14F-4956-AD36-7DC81F06C1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0909D6-C4C8-4B1F-9C69-D4095F5A74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9316C2-8B12-4D35-A3CB-F073AFA4C3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9926A2-82C7-40D9-B865-8FE8A8B1DC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64E1D0-EEE0-4F6E-8EAB-8FD6A4F4D0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002C1C-9EFB-4C6A-B3F0-B315053719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E1CB34-784A-45A7-B545-ACBE5FF75F69}" type="datetime">
              <a:rPr b="0" lang="nl-NL" sz="1200" spc="-1" strike="noStrike">
                <a:solidFill>
                  <a:srgbClr val="898989"/>
                </a:solidFill>
                <a:latin typeface="Calibri"/>
              </a:rPr>
              <a:t>29-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9A371E-6F58-4BCA-8129-8B93A02E280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C8C6C2-2A03-423C-B6CD-77F01FD0226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6A249B-F3B8-4ACF-8D27-4CFB04E17E6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F6C75E-D67C-40C2-8290-3951ABA6411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783293-C655-4E82-B7C6-708E83796B7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94E0D6-69D9-4678-A3F8-6946EDC3E52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084C8E-0D06-4614-B0C8-C7021BE78AC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DA61BC-6FDF-4851-9F79-4AD86B988CA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EA281E-A187-4956-A7ED-816E35D5AF3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349B13-8F9D-420E-ACEB-6AFDE0B2562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5F5E3E-BDB2-47A9-8FC3-C3559DAF806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135E74-BA21-425E-9ACD-6F909D5D0BC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6795B4-4C33-4056-A6DD-B104C1489EA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392DA0-0D20-46FC-B9A3-9EA5F1DFD9E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1479CA-D30D-4124-B10C-3E21A736037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97A53F-CF35-4EB1-AC2D-A338AB3930C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B4A3C5-2279-47EF-B276-CD4F863E4BF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B65C16-1EF3-424D-96FA-47BF2CBF14A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60BB66-4959-461F-A569-7D4BF6A83CD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79BEE3-425A-44BE-A3EC-96DDC2C9B80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995777-B860-43C6-B860-83FBD6EBC1C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8DC985-2902-444A-81F1-8EB7392D9C1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A03BE4-9F81-48E7-9028-437C5D8AF40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550BED-7172-4BBA-A62B-CFF948DC7C5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3F09E3-BAF7-4D04-983C-437C6FB1558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EEEE00-6DBB-4894-ABB3-B5BA6DEEB96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5F5455-DF57-4B69-8EFA-69C340FA61E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0325CC-85E7-4B7A-B3DC-6001E04FFF8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D450DE-4422-4AA2-9B3B-1FE2A4A0666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A18BA5-708F-4AF0-B333-0F4F768CA2A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