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9F18D9-1E56-4A78-B027-3472BE9DD02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A70D3A-C8D0-4281-A3B0-048BC14E6DF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843EF9-7499-4D98-8354-C4C25D711A8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9B5A68-AFC5-4BFC-8E93-BA176C9FEC2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6564F8-8CA9-4CDB-ABD4-82C7293A7D7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F9B319-6A40-4D87-BE54-39CA63966D9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5B3970-663F-4754-87DF-24C298175C7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73706C-80AB-42A5-ABB5-D5972BA9DEC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BBE9BC-C1CC-4EC5-B15C-801479A2DA3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BCED66-B60F-4504-95B9-4B32684F675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EA0522-8314-48F0-83CB-6412671DC17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50A312-73FE-4893-A388-9FC949887D1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CFD5AA-35F9-43B1-AB7C-1DBAD9DF539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562D59-C352-4569-8FEC-F490AD7F925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4B9FEC-673D-4514-8F67-838B9BF69F4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14F4C6-B9F7-49E8-887A-B3E327B3B6C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A1E577-9050-4A70-8C6C-4035E49656D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77019E-6083-413A-AE36-4B63D913092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7D56EC-7EE3-4193-8E7B-78019EF0A2F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5C3968-04FA-468F-A405-E46145E9865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68B2E9-C3D5-4BE5-98C0-9BCCBF111EC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BED08D-884E-40D0-9C3C-6F164CF8549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DD2E86-1DDB-4154-9DA4-49E8A89C496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9B4D9B-F34C-4D91-9C81-EF82BC8B50D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2CBE57-1DB7-49EF-B01B-36393240EDF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19E215-563F-4AF4-A226-58D8ECE0EE0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CC04F1-1469-4F3A-86E0-D4D6F6C2496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88DB21-226D-4A24-A3D2-69595220F9C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976B2A-F150-494A-B2EE-2D8EC940E4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3CE3E8-AABD-4C9B-B3C6-F7F3C8EA57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0927AA-C156-4FA4-AF73-8122BBFE51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950ADE-547F-4208-A645-126C8B2663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0250D6-42BE-411B-A437-267A7C3718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3E1A4D-D390-4DCB-B4F1-009A9A3464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38F08B-77A7-4416-9043-7DEC88C41A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C57080-BA6E-431F-B63A-B756495F3E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5239EB-1A31-4F91-BDDF-3A2919E0CF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27ACBF-E79D-40A4-89AD-95585172E2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9BEA85-751E-43AC-B441-3119EB6BE1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FE5648-D3FB-4C78-85A2-29DCFBA031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73F48B-5328-4D72-B8E0-F6A705EFEFB2}" type="datetime">
              <a:rPr b="0" lang="nl-NL" sz="1200" spc="-1" strike="noStrike">
                <a:solidFill>
                  <a:srgbClr val="898989"/>
                </a:solidFill>
                <a:latin typeface="Calibri"/>
              </a:rPr>
              <a:t>29-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7C3380-0E97-468F-BDAC-C10BF647A8E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C23D8D-D67B-41F5-A137-7A7274A4D08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23292C-01D3-4699-BA46-6B79D448668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E464E5-74F7-46B1-9279-8A3F22C468D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630528-5CE0-4BD9-88D8-641EDEEC34F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6580DD-9837-42D7-BF90-ED1B5F1697B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4BA512-FE48-407E-B590-1D153C28FEB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4A058A-ADAC-485F-B245-45460B35426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13DA19-B960-4D6D-96ED-208CC7029FD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FAB1B2-E401-4822-8BCD-E1B0644399C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6E25DA-81F6-4D0E-B904-D209A3DBF27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82095C-DB02-4684-AC08-59BA186C734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DF5D87-C2DD-4A7B-B6BA-55FD9EBCE73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2D2DF8-9B52-4845-B4D7-361494BAC09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AD1331-3E45-4956-8C3F-6DCE81CF0C1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288E8A-1FA3-4163-A93B-67EBEC6C0E7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35CC6A-7B68-4B80-982B-C247F0D61DE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CF0308-E200-41E2-81B3-828A4D31288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3D14C9-27D4-4166-BBF8-7B258828240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9421B3-2E2F-4E15-B3B4-7803BEE8850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51D839-1AC9-4007-BB56-F60CA02FCB4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2BEF89-58F9-4348-9FA2-B3885F3BD69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2A4A93-6703-49CE-92FC-BE56587B30C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6C93BB-6822-4557-BBDF-3E79BDCB4D0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77AE75-943F-4D31-B7A6-19BA00298CC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2B4BC2-CDB1-4D13-AF54-9F6F3B25746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0E7D5D-68B9-41FB-BBF5-416F68ADDFC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D81BD7-24AA-4EAD-B306-1DFA7458D48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E0BABB-BEF0-4203-B22E-7A0BBCB3F16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D59A78-5142-4FE6-B733-EC05D7A89EB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