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A12A2-ED7D-47ED-9915-2A6F56BFEB3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62776-72E6-415A-9074-1C16DA4E824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C8AB7-D520-4035-BCF0-B9C7F4443F9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79522-B8CD-4545-9A12-0D3EC2CD432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600B0-4D6F-4115-BA44-CF137358F61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2D2EA-263D-4DCD-AE96-38DC8CA886C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855F2-0658-4119-A36F-B5EF1D85620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D674C-4E6C-4832-A457-BF84AE43AC3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FDB13-B0BB-4259-B52B-AB8460E44E5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52947-55A9-4FF2-989C-1D302D94FBB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7EDDA-F847-448F-AB38-E0C61CC73FB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89B87-A3C8-4513-981F-B5D24462671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7DE68-471C-4065-B5D3-D25865F91B2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3EAF0-9C9E-496C-9905-C232D10F2B6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0B980-3E13-4EC4-A41D-181E264DB41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80AC8-3909-4724-8A8D-E9FD9191F67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EDAFA-8841-425D-8662-7596E59F223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0B364-BB75-4CD3-B840-13F78CD22D7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0E60D-58A0-438E-94FA-2E6DCBA3178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BA7A1-AB19-47D6-828E-A4D059D1E15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065A2-B19F-4A3D-A083-FBDB2E1A036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C8EAD-AB75-421C-AF7B-5CC5831456A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BA628-1D99-4133-B446-5A7C9D3C286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4253B-602A-4FAE-877B-E41D4AEFCD5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BFCB0-C19F-4B94-A701-47F93B1C9E6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9265D-D5F8-44AB-952E-6A8E01B3E22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6F994-CF2D-4017-BD6A-99BF1AB1E67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97C2C-74F2-4479-8A61-3FE3A16ACB9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F09544-CBD1-4028-BC39-03BA1EEEBA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6AB7C9-15A3-4ABD-AC86-7A26A6A681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6E7D29-622A-4FC2-A45A-CEA1D8706F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A7C5D5-5F0A-4457-9D82-59737960F5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FDB6A5-1857-4555-933B-B02638A548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9B384E-D055-461D-B3E6-08E79D10DC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294A02-19B0-4B65-935A-7234FFC3AB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E1794D-2855-419A-816B-028192D53E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F2F668-1972-4CC6-AA5F-02F333DE95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19B344-605F-4A0B-8F2E-B75BAA48D2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0FC6F7-1395-4DF5-9A45-70B73B00B7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54FB55-A76C-439E-8C4D-6AFA3B6B90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5FBA5-5C10-4837-B8DE-9F2AEEAC81CF}" type="datetime">
              <a:rPr b="0" lang="nl-NL" sz="1200" spc="-1" strike="noStrike">
                <a:solidFill>
                  <a:srgbClr val="898989"/>
                </a:solidFill>
                <a:latin typeface="Calibri"/>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A2401-3682-4033-AC88-34448F68AB0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7246B-E89E-4F36-9E8B-F928A89F543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1787A-76DC-45CF-8F13-B4469084126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240C4-1861-4575-9596-B3983F7C54E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BCF31-277D-4873-94F6-F8701FC134D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82AC1-353F-4B72-B261-4BCA7601F16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E9476-EFF3-461F-AA91-A94C496E1BE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AF4FD-ECBB-4372-878E-8CF52F535C5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53AD1-01D8-4749-A2EB-328BFB0021C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0858E-781B-4BA6-A83D-A672EA4CF25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409CD-7D8E-46A8-9126-8E18B3DC9BB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03D6A-0B99-4663-9E5D-F543919C00C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FE863-F553-471E-8593-93C98314863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3AA8D-C149-45EB-B8FC-71A69E70609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628A9-C248-4ED1-A626-E8DB4CEA96A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28A56-0C25-4F75-B722-96D6F7211A2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7EC46-182F-4B4F-B693-2770BB16449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22F39-1C9A-40CC-A988-D61C2FE13A5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5327B-796D-4185-92F6-6FD2285801F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AF981-4523-436C-BE0C-AE69FE55A12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9BAF2-6237-47F6-8CDB-00EDEDAC6A9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AAA90-874B-4575-9702-D52F6695CC5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F0255-84B8-4B25-8B3A-1F65DC0F0A2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EC930-95CF-4E75-9FDA-E7F6058C278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4CB4A-7FB8-4238-B97A-EE7E5668492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8908D-846D-48FA-B909-0CD73E1F50C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539C1-92F4-498D-9A75-9B02A5E66D8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6B2CE-15B8-4D09-B6A3-615F1839EAB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D0603-A607-434A-9433-3ADCF1B40D0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526F5-C039-42BF-92F7-D40F15D47BB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