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0484CD-0619-461C-A88D-B0C27EEF941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C734AE-5906-4B5B-994F-6A90B1AE020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9D4459-E094-4384-94B2-07F3EAF893B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656C2A-81C0-427B-A7B7-E77909726BE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87F5FA-7A0A-49FB-A710-44A5CF202F4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F041AB-0BD5-4588-AB0B-2984157BCB5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27EFF9-2EBA-4042-ACBA-63949DD27EB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03832A-168D-4079-BEAC-AD425E36B20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C0C463-C655-48FA-8D9C-17DE3A8BE2B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52C882-57E8-4A43-8E6E-B672EB26D25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EDE7DB-6663-402E-AB19-24B9C18663D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96CD36-0690-414C-9036-D5B0661F6AF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13190B-A95F-4089-841C-B2CBF396FD5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A156BE-9787-4615-92F4-0390E4AA4CC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21AF59-FD6B-4BC5-B8D9-311032A3FB5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55B8B2-8236-43D4-BC3D-A6BDD125079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F92C9F-55CE-4A5E-B551-E5F638BC9C1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BAB22A-497B-4884-95B7-7D914C802E4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9ACE87-7182-442C-B601-E4A2E112761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87BFAA-D462-46EF-B1E6-BC7960757BF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6C0642-A44A-47B8-9F52-FF1D0180CAB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65F760-0555-4EC9-B07C-416BF3B51FB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8072AE-3EED-4ACC-95A8-A2A3E27BA45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7A5650-AEF8-499A-AC08-68A12C46E23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54BECA-1399-4A29-B4BB-E434F8A8FDF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1DFE76-1CCF-4C17-9D87-E5C50EBC859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2D5D2A-99FF-4E88-8AF8-FB753012233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F91868-BAAB-4DAE-B9FA-C01C71B4134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8339BA-5249-41F2-8336-F8E65FDFC5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6D02DE-0249-4E95-AA29-5B9D3ED0F1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228899-C460-4F36-9094-F7EC9F1F3C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C8C28B-5E7F-4C5A-AFC8-5D28CB6727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DFA268-05DF-4CE3-8A04-DDF3A27411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E14AA3-2202-4D92-AA4D-21C72CDD65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F4A3D8-6C83-4D50-AA93-822AD24DC3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5AD1C0-5647-4C30-91FF-C9E0391EEB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C7228B-9841-4EB7-AC0C-BDB17710EC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E51E63-2798-4607-AFF1-7A4C5EFFC0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7578E8-6B3B-4E81-9066-F775516235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CA1C46-64EB-459E-A45D-BB8EED61107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C80613-FBA0-4F31-964D-53C93E7D6EA4}" type="datetime">
              <a:rPr b="0" lang="nl-NL" sz="1200" spc="-1" strike="noStrike">
                <a:solidFill>
                  <a:srgbClr val="898989"/>
                </a:solidFill>
                <a:latin typeface="Calibri"/>
              </a:rPr>
              <a:t>30-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76465C-9EEE-4199-99B5-35575EB4682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libri"/>
              </a:rPr>
              <a:t>Over deze PowerPoin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Deze PowerPoint presentatie moet je zelf vullen en verder mooi maken. Alleen het SPOTS logo staat er alvast voor je in. Ook worden er alvast een paar dia’s als voorbeeld gegeven. Tip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Gebruik veel plaatjes in de PowerPoint</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Zorg voor duidelijke hoofdstukken</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Maak de PowerPoint leuk met filmpjes, grappige plaatjes, oefeningen met de klas etc.</a:t>
            </a:r>
            <a:endParaRPr b="0" lang="en-US" sz="3200" spc="-1" strike="noStrike">
              <a:solidFill>
                <a:srgbClr val="000000"/>
              </a:solidFill>
              <a:latin typeface="Calibri"/>
            </a:endParaRPr>
          </a:p>
        </p:txBody>
      </p:sp>
      <p:sp>
        <p:nvSpPr>
          <p:cNvPr id="50"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25087B-D5E1-433E-8769-2F9BA9F4B62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2. Onderwerp 2</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6C7DF1-EABB-49B7-B513-AD3F8EF83B3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214D10-C332-48B1-87AD-55E75F1DCC8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E599EC-52D9-4A7F-892A-75DEF3162AB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9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EA7074-7A16-4619-A0BE-A621192463F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9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96"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9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52A450-6D47-4E90-A5EA-87C38D22B20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99"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3. Onderwerp 3</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D57929-B806-47A8-B182-E86607B31F4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C0D1F3-1A17-4225-A5F5-F9978F48A03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55D7D2-1660-4091-BBBA-70004809E07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CEC68A-66EA-4FDE-89B5-C26E90F6F46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1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17"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1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8000BA-C8C7-4A72-9935-487314F0B15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20"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e46c0a"/>
                </a:solidFill>
                <a:latin typeface="Calibri"/>
              </a:rPr>
              <a:t>Titelblad:</a:t>
            </a:r>
            <a:br>
              <a:rPr sz="4000"/>
            </a:br>
            <a:r>
              <a:rPr b="0" lang="nl-NL" sz="4000" spc="-1" strike="noStrike">
                <a:solidFill>
                  <a:srgbClr val="e46c0a"/>
                </a:solidFill>
                <a:latin typeface="Calibri"/>
              </a:rPr>
              <a:t>Noem hier het dier waarover je een spreekbeurt houdt en doe er een plaatje bij van dit di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4. Onderwerp 4</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8BC475-1070-46AF-AD30-86FF569BA5C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013AA2-C4BE-42A3-8E11-2ADE6C713AE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669C2A-1EA1-48A4-B6C2-0A808EB4939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5AC8EF-66F7-43D3-BC38-1B6E7C5013C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3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38"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3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84014F-E66F-4D60-BB1F-18B98862994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41"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5. Onderwerp 5</a:t>
            </a: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9761C8-F56E-44F2-A030-FE373E4ED55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15054E-E2C6-4890-84FA-C5737358C20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9E0B9D-900B-405A-8151-B788F0823A6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67E6C3-8F9A-4231-B827-E60233D1673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5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59"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7E8F62-9501-42DE-B615-E11649FF8BB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62"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Welkom op mijn spreekbeur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Quiz!</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1</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2 </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3</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4</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5</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a:t>
            </a:r>
            <a:r>
              <a:rPr b="0" lang="nl-NL" sz="3200" spc="-1" strike="noStrike">
                <a:solidFill>
                  <a:srgbClr val="ffffff"/>
                </a:solidFill>
                <a:latin typeface="Comic Sans MS"/>
              </a:rPr>
              <a:t>.</a:t>
            </a: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75E797-9706-4906-AFFA-F6DE2BA8890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SPOTS_FC"/>
          <p:cNvPicPr/>
          <p:nvPr/>
        </p:nvPicPr>
        <p:blipFill>
          <a:blip r:embed="rId1"/>
          <a:stretch/>
        </p:blipFill>
        <p:spPr>
          <a:xfrm>
            <a:off x="395280" y="241200"/>
            <a:ext cx="8424720" cy="2890800"/>
          </a:xfrm>
          <a:prstGeom prst="rect">
            <a:avLst/>
          </a:prstGeom>
          <a:ln w="0">
            <a:noFill/>
          </a:ln>
        </p:spPr>
      </p:pic>
      <p:sp>
        <p:nvSpPr>
          <p:cNvPr id="164" name="AutoShape 3"/>
          <p:cNvSpPr/>
          <p:nvPr/>
        </p:nvSpPr>
        <p:spPr>
          <a:xfrm>
            <a:off x="324000" y="3357720"/>
            <a:ext cx="8496000" cy="28080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P. van Mallandstraat 46</a:t>
            </a:r>
            <a:br>
              <a:rPr sz="1800"/>
            </a:br>
            <a:r>
              <a:rPr b="0" lang="en-US" sz="1800" spc="-1" strike="noStrike">
                <a:solidFill>
                  <a:srgbClr val="ffffff"/>
                </a:solidFill>
                <a:latin typeface="Arial Black"/>
              </a:rPr>
              <a:t>4754 AP Stampersgat</a:t>
            </a:r>
            <a:br>
              <a:rPr sz="1800"/>
            </a:br>
            <a:br>
              <a:rPr sz="1800"/>
            </a:br>
            <a:r>
              <a:rPr b="0" lang="en-US" sz="1800" spc="-1" strike="noStrike">
                <a:solidFill>
                  <a:srgbClr val="ff6600"/>
                </a:solidFill>
                <a:latin typeface="Arial Black"/>
              </a:rPr>
              <a:t>www.stichtingspots.nl / www.knuffelfarms.nl</a:t>
            </a:r>
            <a:br>
              <a:rPr sz="1800"/>
            </a:br>
            <a:r>
              <a:rPr b="0" lang="en-US" sz="1800" spc="-1" strike="noStrike">
                <a:solidFill>
                  <a:srgbClr val="ffffff"/>
                </a:solidFill>
                <a:latin typeface="Arial Black"/>
              </a:rPr>
              <a:t>info@stichtingspots.nl</a:t>
            </a:r>
            <a:endParaRPr b="0" lang="en-US" sz="1800" spc="-1" strike="noStrike">
              <a:solidFill>
                <a:srgbClr val="000000"/>
              </a:solidFill>
              <a:latin typeface="Arial"/>
            </a:endParaRPr>
          </a:p>
        </p:txBody>
      </p:sp>
      <p:sp>
        <p:nvSpPr>
          <p:cNvPr id="165"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FB53B1-1A9E-4FE5-A300-87D1D559E27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Quiz!</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Tip: je kunt de quizvragen ook opnemen in de PowerPoint zodat jouw klasgenoten deze kunnen meelezen als jij ze voorleest.</a:t>
            </a:r>
            <a:endParaRPr b="0" lang="en-US" sz="3200" spc="-1" strike="noStrike">
              <a:solidFill>
                <a:srgbClr val="000000"/>
              </a:solidFill>
              <a:latin typeface="Calibri"/>
            </a:endParaRPr>
          </a:p>
        </p:txBody>
      </p:sp>
      <p:sp>
        <p:nvSpPr>
          <p:cNvPr id="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0EFA54-E65F-441C-BCDF-C36DBE452F6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1. Onderwerp 1</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F9B69F-87BB-4283-AE4F-BD340713555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63DB34-C53A-49B7-86FA-8DB4A067F51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1E67A9-DE3E-4C61-8E34-5272331E03F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F8B8A0-CA8F-42C6-8A80-5D4D4ED5084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73"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Voorbeeld van een </a:t>
            </a:r>
            <a:br>
              <a:rPr sz="4000"/>
            </a:br>
            <a:r>
              <a:rPr b="0" lang="nl-NL" sz="4000" spc="-1" strike="noStrike">
                <a:solidFill>
                  <a:srgbClr val="ff6600"/>
                </a:solidFill>
                <a:latin typeface="Comic Sans MS"/>
              </a:rPr>
              <a:t>leuke oefening </a:t>
            </a:r>
            <a:br>
              <a:rPr sz="4000"/>
            </a:br>
            <a:r>
              <a:rPr b="0" lang="nl-NL" sz="1400" spc="-1" strike="noStrike">
                <a:solidFill>
                  <a:srgbClr val="ff6600"/>
                </a:solidFill>
                <a:latin typeface="Comic Sans MS"/>
              </a:rPr>
              <a:t>(vervang deze door een zelfbedachte oefening)</a:t>
            </a:r>
            <a:endParaRPr b="0" lang="en-US" sz="1400" spc="-1" strike="noStrike">
              <a:solidFill>
                <a:srgbClr val="000000"/>
              </a:solidFill>
              <a:latin typeface="Calibri"/>
            </a:endParaRPr>
          </a:p>
        </p:txBody>
      </p:sp>
      <p:sp>
        <p:nvSpPr>
          <p:cNvPr id="75"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Brul om de beurt als een leeuw. Bepaal met de hele klas wie er het beste was.</a:t>
            </a:r>
            <a:endParaRPr b="0" lang="en-US" sz="3200" spc="-1" strike="noStrike">
              <a:solidFill>
                <a:srgbClr val="000000"/>
              </a:solidFill>
              <a:latin typeface="Calibri"/>
            </a:endParaRPr>
          </a:p>
        </p:txBody>
      </p:sp>
      <p:sp>
        <p:nvSpPr>
          <p:cNvPr id="7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446D5C-C52E-4617-B763-36E07BCC0D7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78"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11:39:21Z</dcterms:created>
  <dc:creator>Kantoor</dc:creator>
  <dc:description/>
  <dc:language>en-US</dc:language>
  <cp:lastModifiedBy>carla bolk</cp:lastModifiedBy>
  <dcterms:modified xsi:type="dcterms:W3CDTF">2017-05-07T06:19:00Z</dcterms:modified>
  <cp:revision>60</cp:revision>
  <dc:subject/>
  <dc:title>De leeuw</dc:title>
</cp:coreProperties>
</file>