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C8CB8E-21B1-482A-AF4E-01CE4C824FA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DDBCCA-39A4-4870-9006-B6CD8D2A8E2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884E83-A46B-4DA1-A8A5-7F8602F5C45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FC124E-22FC-4ED4-AB8A-C58252592EB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2FE519-63C1-4601-A001-BABD107DAAC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C45636-E875-47C6-8940-F65E117FE60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11527A-36AF-4C65-B714-0B0D66472D8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402822-E39A-4BEB-8CC8-57DD99E44DA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E428BA-AC8D-46BC-A430-C4CDC0F50A5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84ED6D-B1CA-4E05-8ACA-1E6ECA2073A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2995A5-E419-4FDF-9DC2-ED421F0A1EC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EB07FD-D885-445E-A35B-D7A723D0CE8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E73B36-16C8-4AD4-8950-0782C5A2CC6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023B35-397C-4EA6-832E-E2DA6D3AE58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E3AB5D-12E8-4693-A8F4-1667CF5058F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A58225-1434-4677-A5C9-E64C1C8AF6E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EB2321-1B9C-4D47-BE99-DB0ACAB1DB3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2E9787-F78F-47FE-998D-9B0F33FDF64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F86DC9-DAB2-4014-B38F-DC2DD68F641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82C9B8-CA60-490C-BD40-29FD8F95C7E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D89B6F-D3D5-4F1E-95F8-39C5D1E80BF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ECC63C-066F-476B-96C6-C3465D23E16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5479B0-5C8A-42F9-B4C4-558F56EA422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9C56EA-8CCB-443E-90C4-CAD56E1D528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F949C4-C862-4FD5-8D6F-A4377982519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0243A6-5E87-49D1-9BF9-6463DCA2B80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C7244E-7DAB-4CC7-8F07-6CCCBE65AA0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BAEEA0-9BA8-4530-A7F6-A324F0D47DE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B71CAD-06AA-4778-9A59-CAB9CC2A36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70D772-4BE3-44A6-9CC4-514675CFF4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D6C136-9182-451D-B7E9-A7212A3ECE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CF76DE-CBF7-49FD-92C7-9442A7835F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8C9C5B-D31C-4035-A4AC-4859BFB258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DC68BD-5C81-4408-A8FC-46B38D7EC9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83314D-296B-4C75-98F9-A22F2FE251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801E7A-5BBD-4AE6-A845-0BFC7141DB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5DABD4-887A-458F-BBD8-9AA29A618D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E679C7-B2F1-42E4-BEE2-99F6FF1288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571811-F0C7-4B9B-8573-EA25D245C3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FA5596-8AF5-45B9-A3BB-73A7943C8E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DC3AAC-A000-4F3E-B4F0-71D4110C9338}" type="datetime">
              <a:rPr b="0" lang="nl-NL" sz="1200" spc="-1" strike="noStrike">
                <a:solidFill>
                  <a:srgbClr val="898989"/>
                </a:solidFill>
                <a:latin typeface="Calibri"/>
              </a:rPr>
              <a:t>28-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E40DE2-3081-4CB6-91CF-A8A84FD03D7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F3057E-2748-4014-B135-D4A72B4904B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CC1F35-E3C8-4322-893B-F1FF7692644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3CE166-9596-4F9C-973A-E8083E8ABFF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CEFDAF-32FD-41E1-8B05-837E6464365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C3B965-490B-495D-BC6D-AAC467C97DD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2581A3-AA8D-410F-B693-8CF98A6EFC8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3B5DC8-2257-4A3C-8CC3-2E1E91CAB11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F8E253-8334-4C18-BDF9-424B4AF9D83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4CAAC3-88C9-42DF-A2A5-7BFA8E662FF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4471DF-739F-4E97-A1C4-2C176120294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BF0A1A-391C-4642-8868-687E25C4BC6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8A6B3F-B63E-49B9-9EE8-2DCA5187AB7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726544-D5B3-4A7F-93C1-E5105560CB2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34899F-E477-4A3F-AC7F-4495ACA990E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3CDC7F-7FC5-4A57-82FB-DD116AF9D71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764D04-35F8-409C-8074-C3AC057EBDB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EB89C6-3E37-4C73-9980-9429748430B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3B96AA-3923-4951-9C0F-1E774CF7C9E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713E46-6C1F-4DF3-93AD-5E6DEC2AF7D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1AFF35-3941-453D-8243-02DA28F8F3A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825A15-8075-4F4D-8745-2991672B0C1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2450F5-C68C-4FBB-AF7A-EA848B0982B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953E8E-746D-437A-A79E-D3F78981F6D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CFB33F-0AAB-4128-BB98-A93D4EA9E69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617CE2-D0E4-42CD-BA22-00FA92CC9C1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09630F-C693-439F-9C31-353D0D3B261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3A26B1-FB00-4657-AC7E-41B02B95C32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133918-CEB6-416C-BECB-8D705DFC1B9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F1F16C-D9EA-4E3A-B22A-F7BC031804A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