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455ED-ED3B-41AD-86A0-0BC1549798D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788EDA-C362-4A3F-9FA0-14506042766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1EDB2-F647-4DA9-89F4-962476256C2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B31FE-C8ED-4E96-80B9-6603D753BF4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62552-BDF1-4906-BDEB-8C58966FF99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43981-8DC4-4685-9ABA-6B1292C56E8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535E1-927E-4065-BE6A-2BE589C089F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76E0A-A274-4799-975A-4002F3BE899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BF98CC-63A4-43F7-B787-BD8EAFD52C3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F508B-D46C-4621-BDD4-D67CEE6263F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620B9-3835-4E23-903B-4D0B7AF787C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135A5-11BF-4646-BB54-B6B14443FD7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3291D-0252-4A87-86B9-3D3EB5631B4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1F8DFA-6410-4EC9-877F-C1ADDA5B5C3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AFD1A-B357-46B9-B646-AAEE26A3330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D4838-8EF6-486C-8946-DF958AD123A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7D86D-D01A-4DA3-9D98-CA8E1C4B0D2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C4FC3-D3E3-46FD-BB11-00BF67A45F7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6FDD5-D1B2-4117-B3D3-F529CF1A1A7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3AEC9-0EB3-4943-B287-50519E058DC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2F9A0-6B50-4F85-82ED-FFFFA13E216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42EB82-C924-45F0-9719-4B9894CB921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C07D5-3167-42C6-B67A-EEEB76B27EF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C4B7F-368B-4019-B75C-CEB8C16F2E4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6E67B-DDEB-4A7F-9C59-A4647901ACC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75A6DC-77ED-43CF-A6CB-987FB33BB30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6EAB2E-1BA3-428F-9654-4201D81E3DE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3F03E-446F-41F6-9775-38ECEADB8BB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CE435D-B947-49BC-B671-B3EB7CCE7B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E92F7C-8702-48B8-9980-245E1E295F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279491-C191-4C11-911F-2217518CB2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0338F1-FB87-43F9-816C-A732DB0E9F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EEC8C7-5756-4F2E-BC6E-325279F314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08E394-81C0-4E47-B526-93D014EF3E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7472E5-249E-4DE8-98F6-0EDFF17582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E1FBCB-010F-4B31-9248-6724DB2555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A1675B-DAD0-4706-A59E-2C9AF6E4E6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428002-AE96-4F5F-854A-6C0929934D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838436-1CAF-42B6-8368-46E6491AE7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72E487-BA23-4E71-B67F-A9F8B0392B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761FA-6BA1-49BC-841B-C67FC42A88A4}" type="datetime">
              <a:rPr b="0" lang="nl-NL" sz="1200" spc="-1" strike="noStrike">
                <a:solidFill>
                  <a:srgbClr val="898989"/>
                </a:solidFill>
                <a:latin typeface="Calibri"/>
              </a:rPr>
              <a:t>28-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9C462-D70F-422B-8F41-EF1F4D081D6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385A1-6D02-49FA-B35F-9A993B70B37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4A8CF-D4BB-4D26-915C-040C229F5BA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B7A2B-0FFA-4A91-BF48-1DEBDE46632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CDF33-3E14-4228-A4D9-3911B3FECBE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E4047-E939-4D8D-913A-F20E62AC9EC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C2D75-7117-4DC8-B36A-126425EC4F2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E5BE7-8D72-498F-A315-ADCAFC08F65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7F588C-C6B2-4AF6-8A64-BCE5E1251C8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2B63B-1237-4229-A443-101C753A6A8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B8B1B-3FA0-43FD-8E24-481CE13A981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224904-043B-439C-9729-C1CCEB74E7B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AA5DE-7D9E-421C-80F7-BA0E6B68BC4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70330-63B5-48F7-AFC5-3679BF79C3F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99833-F4E0-49C8-86ED-00FD2233C87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50118-F5E6-4F99-A36E-7D5C47F498D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B534AC-8109-4C65-B8D5-DE9EEB83899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C147B8-1208-453B-A2BC-F3875ABDF32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EC704-7CD7-46B2-B507-BD697B471C3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9F458-D2EE-4D1B-A0DF-8BF32B37CCA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19FB4-A8C9-4CDB-A98C-8AB70E9F474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E0CEC-AD6C-4C5B-8653-56FE5B7B597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32078-8C94-46DD-9FF9-9CB854D5E5A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665539-8417-44E9-8717-87AD8A7EADB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A6310-2704-485B-BA50-7C3A1779EFD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DD5079-79D9-4468-8166-606DF358F41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4204DA-5E6E-441C-8814-5354EAF0685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C50C1-7838-4F55-9C23-A7179CA4ADD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8BA1D-2972-44C3-8CBA-CCA7F5B8F52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013E1-9EA4-48E0-B111-7344EA53AA6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