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414C6-E076-4B94-A691-8416BCCEC5C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C7207-C57E-446B-886C-3EDF32B0011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C359E-C5CB-4D4B-9B1F-1EFEEE9E430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7C8CF-5AEB-47F2-BC07-DE37371DD33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0CFF0-F60C-4653-8549-06B0A46FE3B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C8CA4-B955-4ED9-8112-A2E7CA1C571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D6F92-D044-4012-B5F8-3C853C6ABC0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10679-CD5E-45B0-8A25-04DA8EA5E75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7B0B5-231F-45A5-8A5C-1EAF12DAAF2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17151-F6B1-4E15-AC86-55A8CB452CC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57A77-0173-4DC7-B89B-0EF1FEB0312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42AD1-A7DE-4DDB-87A2-2C7D1704E2A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3A4AE-0996-497C-8F7D-0C99578A3F2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83C12-F1E3-4AC2-8437-942B64B83B7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FFBF4-217D-434B-898F-4A78A84DF2B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61836-3485-40D8-AA62-BABE8D273CF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9D3F3-48A2-41C9-BEF1-C23A38A0BF4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5F947-B57E-484D-81C8-D10BF1B6E15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11C99-56BC-4CB8-8352-E6E90F3AF0B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4B906-21DE-4E7D-B6B6-51A706EAAB2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55CC3-1747-4698-BDD3-975FF471BC3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30DBF-E777-49C3-AF0E-A13ADBA888E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8B1CA-C7C7-4BA1-AFDC-E7375F90BA6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0A832-0DBB-48C5-847A-4E118F900DA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74D8D-3DFC-481E-AF39-5A1EE7D6485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7DB74-D92C-4DB4-AD4A-FD91C86FEB8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2EB5E-70EF-46A0-B2D2-86C7CFB724E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E4922-9171-42C8-A813-1E7D3A55309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E99AD3-1713-497F-A230-587F594702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D15423-7ACA-4E62-BF65-4583D84FDD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5A3002-A48F-447E-8DDB-38B39F6505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423697-DF67-4021-A263-3E3C58099E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EAA20A-C86F-47F7-91A7-FCA49AF18D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3644CF-63F8-4BE7-B690-AD5982A290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17C2E1-1C27-448B-B147-1B6F34D159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809394-3A56-4F85-8880-A3F5DAAB45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9F4140-9736-4822-87A7-EBA3A49271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A6E8C5-3494-4C10-BC67-D3FA57A087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11AB41-0AED-4DF3-A9A7-700A3CE891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0386CB-9BB3-4975-8558-D2B16CF427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47DE7-DEA2-46D9-AF62-87F0488EE1D9}" type="datetime">
              <a:rPr b="0" lang="nl-NL" sz="1200" spc="-1" strike="noStrike">
                <a:solidFill>
                  <a:srgbClr val="898989"/>
                </a:solidFill>
                <a:latin typeface="Calibri"/>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5F104-3E7E-4F9B-AA7C-633BA3180EA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B4099-DEC8-4CB2-A227-D32CF057F85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EF1FB-BD4D-4F68-A5DE-377A0DB2119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5B7D0-D7EA-40B4-9870-AB931419800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5E92D-6962-47CF-8DC7-15E1151B444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7AE5A-F5C8-42A3-AD1A-B8310E48153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B1656-F147-4B24-8B24-347C0B50D41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1F215-640B-4569-A3A8-5EBB61242D8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F2C5C-35C3-4B69-B228-6E693BD5705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6C6F0-362C-43B4-BF43-7E4CCFE1284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43AD4-B128-43CE-84D0-26CC03782B8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2BB62-A807-4550-8A59-0A8158E2330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C70C6-2209-4A9E-AF73-F0B4296B7C5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84F03-3B0A-4A8A-9EB1-BD7111C127B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33A07-5768-4E07-8C35-E039B053ECF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92AA4-6083-4898-9A2F-081C12A8B91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2BDCA-9C89-4DAC-85A2-B1A308D9E0C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6CBDB-9C03-4DCF-BFC0-34ABE50EF9D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30D02-8D43-4C98-A342-C87703922DC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44C33-01BA-43F3-9A3E-74D6B582295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7D941-37C6-4BDF-B335-42E3AF87E84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AF205-1214-4A4E-A8DB-292D67DB9B0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24E3A-D3A7-48AE-AE11-1F87547B642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E1563-0511-4C6E-9826-F6A29420B20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AF44B-9B6C-4DD7-8F34-295714B2DEC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7B227-816A-460A-9661-A98FC9FBAC7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8A638-E67B-46CD-BF8A-D08C92F561C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91090-5AC7-492A-9E19-9C9D08DC59A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98B47-5DF2-460A-9625-A7806D7A310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0E3AD-2858-409E-8EFC-137EB34D01E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