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2BEF8-EA0C-4D22-B0A1-6317D1FA167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2B92B-8AA4-4A6E-BEA6-E496405F6C1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90263-1219-40BD-BA3C-F5100B723FC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B8A9B-BC9E-4854-B2A1-BBE6659F082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EE1F4-BE28-4601-B57B-3FD4FE5814A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AFBDD-3C0C-4740-A486-A0D3B5D666A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1EA9F-D9D6-4844-A8A4-AB209140592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F588F-46B8-4CA8-84F9-57AF84A2904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D2D83-5B1B-45C8-99C9-AB0A8A2CC1F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2EBFF-B171-43CF-AE58-C86ABFD7B93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21C0D-7740-45DB-AA50-A886F98AD99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FFBEE-1ACD-4AEE-AFEC-C6492B8D6B7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85ECD-87DA-4941-9F63-9D040256022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3DEB2-AFF6-4D52-BA20-261F07680DD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C5C8E-5295-4E1B-BE1C-D8E71275DE6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5AC01-5862-4FAD-B125-56E0B02A876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D7F18-FE11-4199-A6C6-5A5AE3871E9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778C9-45C1-4D61-93F1-1CDEFCAAB8A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7B7AE-79BE-4063-A8D4-44D705122BF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FBB55-943F-43AA-88CD-3510007F7B3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8A734-619C-4A98-9F87-9366A59A5B2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B1836-CE26-4D38-869E-AE7D9CFF2C7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E7A5F-2BDA-4453-9E4E-D6B0F77A042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ED21C-940E-484C-83CF-C7E8397BA9B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6B71F-95B0-4F82-87B6-81DB9808668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C57E3-FE22-4FCB-99CA-743E233051E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F28B1-A56C-43B1-A26F-8B5479409FD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0EB13-026C-42DB-90B9-3B2C43B94FE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426E9A-6617-4027-837B-129D085824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B3E187-AFE8-4284-827C-5B59161EAE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2F1CCC-11A3-4BEC-865A-F218850E0C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874BD1-AFA1-4D23-B39D-EEADCE256C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CB34D6-AB01-433A-A5BC-A560D132AB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4692B3-A857-446B-8561-599E33D8AA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030F76-48A0-4B0A-B6D3-35396D1007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16C8B6-5F82-4582-A725-B99688A8FA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43E5B8-E974-4807-A546-BF41538335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533649-BE7E-463E-8A41-A2B6E8BF36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D9E299-3113-4350-9615-4EBF341E67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542A38-8F9F-483B-90B7-EBE5F22776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76D61-3396-4E16-9416-1003B345DDB7}" type="datetime">
              <a:rPr b="0" lang="nl-NL" sz="1200" spc="-1" strike="noStrike">
                <a:solidFill>
                  <a:srgbClr val="898989"/>
                </a:solidFill>
                <a:latin typeface="Calibri"/>
              </a:rPr>
              <a:t>31-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F4014-6A23-4AAA-9107-072329CD765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62A56-0583-4F07-BAB7-2F7F8CB4DAB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9AA45-EA72-48EF-B51C-48728E014DA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4116F-2E43-41BF-ABCA-6A300E53867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0B03F-148B-4998-A2CC-A9343FF487B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3178D-BE52-4920-AEAC-4D1321D9B54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137A2-C9DD-4282-810E-1F4CBCD574B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22D17-01BC-4E16-AE76-CAFEAF981C9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930EA-30DA-4700-B665-11F6A51A45A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256E3-9E71-4C5C-8A00-7225551045B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814D0-D764-47B9-9D16-8D09F387518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34CDA-E15D-4038-8F06-7745EF87A51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487C9-05CF-4D38-ACBA-B885A1A47DF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67AE9-EFD8-45A9-953F-AEFF094FD43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F9DE4-DF59-4A70-B0EF-F524E090978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D2682-EF5A-4A79-8BD4-22C40511D35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04D56-BA60-4B5D-9013-2417309DEAF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40316-5B3A-4275-8680-2C85AF3F8C3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53575-EDCA-41BB-B1A6-9AD8583AAC4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9EEE5-11C4-4B9A-A1DF-95227976553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0A4C4-F686-4BC5-A1B2-AA32C2D1544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F57E0-1BEC-4459-BA96-52F4577B6BF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E0DA3-FD0F-4761-A463-640D3D05370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9B826-412C-4CA4-9833-CF5281525DE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13818-6921-43CB-9ADE-F59E3CA3B17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9C950-FE44-4CFE-B29C-527F9C117E1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23024-A735-4600-9D82-FD93323EB89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13C8B-7753-487A-A4F1-C41AD0E837F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A6A53-5094-4D6C-8FBE-4520A3C9DD2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0D32E-D29B-4D00-B845-5E8EF6F9E94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