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9A5148-EA48-476B-B8F4-F056DCCBC12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C9131C-8902-444B-AC53-5245FDB83CD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4BC394-CB42-4CCF-A1CB-753C8527BB5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D44D6C-C775-4930-B15D-0AE334EE7B9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1A9E0F-C2A6-45E1-A247-B6D889853CC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E88D00-CD66-4E37-884E-1213584D69C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C4A885-307A-4181-BACA-72CC71805C6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64BF91-F5B5-4E05-9A2A-412B8B0BD7D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05B652-429A-4B31-8406-06350D778B5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FEE275-0742-413A-A604-9FCFF54E4C9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D137CF-A79F-4350-B93E-F5D3313B899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3B5CD5-525E-4B47-9204-DC69F67F9F2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DC8A67-EFC5-404E-827F-3FC3E13365B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9706AF-5E7B-4251-913C-A7E1D54ADF4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231E9C-FC17-4AEF-9925-4D04B072AF1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734444-231B-4737-BD96-AA299DDA97E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E837AF-6E94-4C95-A1E5-F35B0D46A32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4BAAE3-BA76-465A-8A42-16259B985A5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69DF8C-01BF-4797-82C3-B74706F87DB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4056B8-4887-4831-A3FD-84A77303AE2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13AA6B-7F5D-448D-911B-7CA08331523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0C87F3-86D8-486B-88D7-815B86BF267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E4CCF5-A5F8-453E-80B9-6D6974501CE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362038-D3BC-4F4B-A903-2187DFCEB15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74575A-1CFC-4BEE-8A69-34DA4CAEF9F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D5F4A5-4A91-4498-9179-84CE3F45F05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D17F22-7B73-45E4-BE10-FA8EC85B39D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38E56A-544E-48C2-9894-1485151ECE4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FB0CA3-D506-4A48-BDDF-8D2C9ADADB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B18394-0A11-4D60-816F-3F62A2DEE4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7690D1-668D-4E37-BFC2-2DDD828E7F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008196-11E6-45F4-ACF6-3EEFE63235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9B15CD-36CE-42CD-ADE8-8E54B1F410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E055BD-341C-4012-9FFD-BE4480A87F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2CD63D-F917-4879-B3C8-E89B1BD526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4C5239-FE36-4B24-812F-AD163B3C60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637EA1-E2E8-4A1D-AF0E-440B284B1A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9ACB26-9BA2-4944-B6E8-AF8A62F2E5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428AA7-61F5-4DE9-9BF5-02A0A6F301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BAE814-3761-4C39-9EB2-5AD0C670D64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0EEEAB-B639-441D-B5BF-C4CB6D726AEF}" type="datetime">
              <a:rPr b="0" lang="nl-NL" sz="1200" spc="-1" strike="noStrike">
                <a:solidFill>
                  <a:srgbClr val="898989"/>
                </a:solidFill>
                <a:latin typeface="Calibri"/>
              </a:rPr>
              <a:t>28-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69A41A-69D5-47C9-8060-9D8E339E0F1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libri"/>
              </a:rPr>
              <a:t>Over deze PowerPoin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Deze PowerPoint presentatie moet je zelf vullen en verder mooi maken. Alleen het SPOTS logo staat er alvast voor je in. Ook worden er alvast een paar dia’s als voorbeeld gegeven. Tip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Gebruik veel plaatjes in de PowerPoint</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Zorg voor duidelijke hoofdstukken</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Maak de PowerPoint leuk met filmpjes, grappige plaatjes, oefeningen met de klas etc.</a:t>
            </a:r>
            <a:endParaRPr b="0" lang="en-US" sz="3200" spc="-1" strike="noStrike">
              <a:solidFill>
                <a:srgbClr val="000000"/>
              </a:solidFill>
              <a:latin typeface="Calibri"/>
            </a:endParaRPr>
          </a:p>
        </p:txBody>
      </p:sp>
      <p:sp>
        <p:nvSpPr>
          <p:cNvPr id="50"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1DDD61-C391-4666-B70C-C8E8833F4FC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2. Onderwerp 2</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4702C0-C013-43C4-AA4C-870C99C84D4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FD3791-A334-40AD-A910-11406C6805F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822A75-8F61-431D-9123-CCCB6C9A300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9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447D7C-984F-4327-B680-1DFBE273545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9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96"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9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153C7F-EC56-4FB3-8B02-0DDE5AA213A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99"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3. Onderwerp 3</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CB438F-52C2-4CD7-938D-A450EDF2E9C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B1AA72-7F7A-4E2B-8222-DE9E69A4979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677BBE-81AF-4FE3-A112-D2520950190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4E80FF-2A0A-4BB2-AB16-590AD76E7C6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1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17"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1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399CEC-9892-4663-9F93-2F441992535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20"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e46c0a"/>
                </a:solidFill>
                <a:latin typeface="Calibri"/>
              </a:rPr>
              <a:t>Titelblad:</a:t>
            </a:r>
            <a:br>
              <a:rPr sz="4000"/>
            </a:br>
            <a:r>
              <a:rPr b="0" lang="nl-NL" sz="4000" spc="-1" strike="noStrike">
                <a:solidFill>
                  <a:srgbClr val="e46c0a"/>
                </a:solidFill>
                <a:latin typeface="Calibri"/>
              </a:rPr>
              <a:t>Noem hier het dier waarover je een spreekbeurt houdt en doe er een plaatje bij van dit di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4. Onderwerp 4</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0F3B92-3768-408D-81E3-289B13A27DD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EE7FFD-EAD1-4A4B-9896-5B7242BB920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8818BB-31A8-4A86-8793-492325C498D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FCE072-3D45-4612-82ED-66B506C0F02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3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38"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3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B4CFDC-4DA0-4BF0-BE15-F484AFB108D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41"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5. Onderwerp 5</a:t>
            </a: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ED7B57-8579-4C32-B721-D8E2F26CF04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09E909-BE92-40A7-B4C3-0D90FE86C9A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A1F72E-FD00-4CBC-8B40-6A9260BB591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AA4A49-504A-4FFE-BAE4-61214A5A24D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5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59"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7EABEB-DB3C-48E5-8238-13D9D25967B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62"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Welkom op mijn spreekbeur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Quiz!</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1</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2 </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3</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4</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5</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a:t>
            </a:r>
            <a:r>
              <a:rPr b="0" lang="nl-NL" sz="3200" spc="-1" strike="noStrike">
                <a:solidFill>
                  <a:srgbClr val="ffffff"/>
                </a:solidFill>
                <a:latin typeface="Comic Sans MS"/>
              </a:rPr>
              <a:t>.</a:t>
            </a: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48EDA2-66A7-4BF9-9E31-7682468AD58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SPOTS_FC"/>
          <p:cNvPicPr/>
          <p:nvPr/>
        </p:nvPicPr>
        <p:blipFill>
          <a:blip r:embed="rId1"/>
          <a:stretch/>
        </p:blipFill>
        <p:spPr>
          <a:xfrm>
            <a:off x="395280" y="241200"/>
            <a:ext cx="8424720" cy="2890800"/>
          </a:xfrm>
          <a:prstGeom prst="rect">
            <a:avLst/>
          </a:prstGeom>
          <a:ln w="0">
            <a:noFill/>
          </a:ln>
        </p:spPr>
      </p:pic>
      <p:sp>
        <p:nvSpPr>
          <p:cNvPr id="164" name="AutoShape 3"/>
          <p:cNvSpPr/>
          <p:nvPr/>
        </p:nvSpPr>
        <p:spPr>
          <a:xfrm>
            <a:off x="324000" y="3357720"/>
            <a:ext cx="8496000" cy="28080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P. van Mallandstraat 46</a:t>
            </a:r>
            <a:br>
              <a:rPr sz="1800"/>
            </a:br>
            <a:r>
              <a:rPr b="0" lang="en-US" sz="1800" spc="-1" strike="noStrike">
                <a:solidFill>
                  <a:srgbClr val="ffffff"/>
                </a:solidFill>
                <a:latin typeface="Arial Black"/>
              </a:rPr>
              <a:t>4754 AP Stampersgat</a:t>
            </a:r>
            <a:br>
              <a:rPr sz="1800"/>
            </a:br>
            <a:br>
              <a:rPr sz="1800"/>
            </a:br>
            <a:r>
              <a:rPr b="0" lang="en-US" sz="1800" spc="-1" strike="noStrike">
                <a:solidFill>
                  <a:srgbClr val="ff6600"/>
                </a:solidFill>
                <a:latin typeface="Arial Black"/>
              </a:rPr>
              <a:t>www.stichtingspots.nl / www.knuffelfarms.nl</a:t>
            </a:r>
            <a:br>
              <a:rPr sz="1800"/>
            </a:br>
            <a:r>
              <a:rPr b="0" lang="en-US" sz="1800" spc="-1" strike="noStrike">
                <a:solidFill>
                  <a:srgbClr val="ffffff"/>
                </a:solidFill>
                <a:latin typeface="Arial Black"/>
              </a:rPr>
              <a:t>info@stichtingspots.nl</a:t>
            </a:r>
            <a:endParaRPr b="0" lang="en-US" sz="1800" spc="-1" strike="noStrike">
              <a:solidFill>
                <a:srgbClr val="000000"/>
              </a:solidFill>
              <a:latin typeface="Arial"/>
            </a:endParaRPr>
          </a:p>
        </p:txBody>
      </p:sp>
      <p:sp>
        <p:nvSpPr>
          <p:cNvPr id="165"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5D2A85-FE13-4C2F-AE16-B128D3EAE73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Quiz!</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Tip: je kunt de quizvragen ook opnemen in de PowerPoint zodat jouw klasgenoten deze kunnen meelezen als jij ze voorleest.</a:t>
            </a:r>
            <a:endParaRPr b="0" lang="en-US" sz="3200" spc="-1" strike="noStrike">
              <a:solidFill>
                <a:srgbClr val="000000"/>
              </a:solidFill>
              <a:latin typeface="Calibri"/>
            </a:endParaRPr>
          </a:p>
        </p:txBody>
      </p:sp>
      <p:sp>
        <p:nvSpPr>
          <p:cNvPr id="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855D3F-E303-409B-AF49-86F1DAF899A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1. Onderwerp 1</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56A4A6-D76B-456E-B3ED-CFC7303FA54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8AA7DE-0D74-4E9B-8141-1C237113A14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F7F499-472B-473D-BDAC-6C60D85C58C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651E4F-0B5C-4D6F-8CFA-F3445F60F6F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73"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Voorbeeld van een </a:t>
            </a:r>
            <a:br>
              <a:rPr sz="4000"/>
            </a:br>
            <a:r>
              <a:rPr b="0" lang="nl-NL" sz="4000" spc="-1" strike="noStrike">
                <a:solidFill>
                  <a:srgbClr val="ff6600"/>
                </a:solidFill>
                <a:latin typeface="Comic Sans MS"/>
              </a:rPr>
              <a:t>leuke oefening </a:t>
            </a:r>
            <a:br>
              <a:rPr sz="4000"/>
            </a:br>
            <a:r>
              <a:rPr b="0" lang="nl-NL" sz="1400" spc="-1" strike="noStrike">
                <a:solidFill>
                  <a:srgbClr val="ff6600"/>
                </a:solidFill>
                <a:latin typeface="Comic Sans MS"/>
              </a:rPr>
              <a:t>(vervang deze door een zelfbedachte oefening)</a:t>
            </a:r>
            <a:endParaRPr b="0" lang="en-US" sz="1400" spc="-1" strike="noStrike">
              <a:solidFill>
                <a:srgbClr val="000000"/>
              </a:solidFill>
              <a:latin typeface="Calibri"/>
            </a:endParaRPr>
          </a:p>
        </p:txBody>
      </p:sp>
      <p:sp>
        <p:nvSpPr>
          <p:cNvPr id="75"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Brul om de beurt als een leeuw. Bepaal met de hele klas wie er het beste was.</a:t>
            </a:r>
            <a:endParaRPr b="0" lang="en-US" sz="3200" spc="-1" strike="noStrike">
              <a:solidFill>
                <a:srgbClr val="000000"/>
              </a:solidFill>
              <a:latin typeface="Calibri"/>
            </a:endParaRPr>
          </a:p>
        </p:txBody>
      </p:sp>
      <p:sp>
        <p:nvSpPr>
          <p:cNvPr id="7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502449-57FB-424A-8FFD-6E53EB0D126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78"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11:39:21Z</dcterms:created>
  <dc:creator>Kantoor</dc:creator>
  <dc:description/>
  <dc:language>en-US</dc:language>
  <cp:lastModifiedBy>carla bolk</cp:lastModifiedBy>
  <dcterms:modified xsi:type="dcterms:W3CDTF">2017-05-07T06:19:00Z</dcterms:modified>
  <cp:revision>60</cp:revision>
  <dc:subject/>
  <dc:title>De leeuw</dc:title>
</cp:coreProperties>
</file>