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D2C108-9FFD-4C0B-A61E-27C3C8474D1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142C18-3E48-4635-864A-D3978BFC521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7454DA-F8DE-48D8-AC28-3B8AD841357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F3A56B-0476-4F49-9980-C7795B15A38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9625E7-FF01-4257-8822-40A33F30455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34C9F2-B7FB-49F0-B587-3C217589E92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6EA437-2E37-4313-8386-3A85F97425A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9E2C3C-0599-4E89-9927-731CA136085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2BAD14-2F0E-4A72-AD89-051BE6B7166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2073AE-BD1F-499B-A7C4-0B32996B10B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2FE2A6-A4AC-43F4-A14F-41A29F9B040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59D1B2-0B66-40ED-9E05-65DC65CCBCB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911167-2383-444A-87BC-D39E8994027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397952-404B-46E8-91AA-C82974B6E78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E4773C-46C4-4FB9-94FD-7CB1506BA35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FDDB42-F058-422C-A34B-BD7DC6FCCC6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2C6325-0736-4B69-8B99-4293A2B54DC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B58482-3957-49F7-83F3-CFD0B8E149A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E61C25-DD1B-4BFC-992D-2479DA5E77E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255B06-4C0D-4FB5-BEC0-E8AD3ECF4DA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D1C304-4032-4776-90AD-F9D1EFD331B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66C47A-80CC-4F13-B55A-A66195A7092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9576CE-D63A-4298-B688-F3BF6A83E43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225D0C-70F2-4FAA-86E0-F0DD7383C1F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ED0706-30DB-4105-92EA-E15E587FF14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A70585-7B49-495F-8FD0-FE6CFD63181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D91142-9D09-4BF9-B969-5A57D89EAFF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57D524-503A-4D35-AF9C-DA6F1652272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7357D5-9C53-4AC9-8089-F4E5938C3E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2BA032-E8C3-4B7F-A7D1-4E3B5F98C5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BA6738-5E42-432B-81CA-7509B44CE9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714511-51CE-4C7E-B345-DF87DEFEE9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3A09D7-C233-4DA8-B08E-A1052BDFFD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28B0D9-2F16-4210-A9ED-BD3F58799D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1E0887-A7F0-40DD-A842-2901FBB694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0FC57E-6B59-473D-B4CD-8A6FAF5E24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DD5F22-57C5-44D2-847E-1B22EB0A87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713C76-9A6D-4980-9D98-A6D89EAD84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196243-2EBC-4369-A10B-1134281D22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4C3EDA-6052-46F8-A011-304249406B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835018-388B-4961-913D-C7CD949AF2DB}" type="datetime">
              <a:rPr b="0" lang="nl-NL" sz="1200" spc="-1" strike="noStrike">
                <a:solidFill>
                  <a:srgbClr val="898989"/>
                </a:solidFill>
                <a:latin typeface="Calibri"/>
              </a:rPr>
              <a:t>31-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0269CB-90FA-4D0B-9A19-E174ADB4352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C4AC47-C79F-4A12-AE0C-83AFD362D7E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4BAB46-81C0-48FD-9211-6168B5EE16A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D82BD0-4E36-4DF9-9C0F-6A0FFB945B8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002DC3-A591-4608-9C34-DD5A59C1DEC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C36244-A4BF-4B3D-A65B-3D01201A153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0DF06A-341A-48DE-88AE-5E2926E4903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11F05E-7937-464D-8B93-E2A53404BE3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2049AF-DF7A-43CF-B2E0-ED52029ADF3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E43CE0-9230-45D4-AFC9-864829FCFD9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2EA9D9-E8E0-44CB-A1CC-5A3DFE887FA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B35DC0-7F5B-4108-BE97-44C202A4D4C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571956-BE45-460B-87EB-6A8D123B355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560CCD-0106-45D0-B6B9-41E8E23DBF7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92C058-23D6-4328-A2BA-75990873BD2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2309C5-83AC-48D0-8BD7-0137921C549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94BE3D-6049-4F96-8395-A5FBC8AC24A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F92BDF-A310-4AB2-B99A-37B10B25BF2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927AEA-DFFA-47EF-B90D-1109150A5A1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C9130E-93C9-43AE-B9B8-6DE978B09C8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78893A-D91A-428A-A495-9F7D514264C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F839D3-AD9F-4D27-87C5-A5B765D6AEC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97A354-EF3E-49E9-A1C7-24BA30D3161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AB6933-580B-44CE-AB84-78B2535D52B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D18BA6-CD18-41F8-AF92-8B6F254A59B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156D56-474C-405D-92B9-C82A7BA8BA1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D8EDBF-558A-4BC3-857A-997BFA3AAB2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E43C14-5788-4658-81D0-BEBB245EE30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3765A1-C3CF-4C44-9511-E8F345E1490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CD544C-4E99-4048-8A14-ADC3BFCE753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