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3D5804-8740-4DFC-92A4-952D3E251F3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0DE5B2-C3BE-4371-B423-280C37B80EA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458B92-FA38-4C59-AF7C-FB7AD3C3857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1CFB8F-8929-471E-8649-03C0760C04D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F07804-40A8-42ED-BE0C-08BE4B38C9F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ACC96E-B9FA-4AAF-935A-8F87A55C9E8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77640C-9CB5-4A1D-B900-C6E10325D9B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E24905-2240-429A-B6B1-A748C911B06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45C674-83F7-4408-97C8-96C42D93F4F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2B5871-2ED3-4A19-921F-20EBE2645D2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44D71B-D0B0-420B-A044-5B4EB862EB5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329C97-47C1-4FA4-9E01-9BFE93483C4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3BED25-254A-455A-9EC8-927D3679660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2A3B6F-F2EC-4B52-B66C-C3709EB0C8A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CB40E3-67A9-473D-82FE-6CE4F37E09A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AB1C23-AFAA-4B74-B430-A1811748FE6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5951E3-921E-422B-B354-7F99F62507E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D29EF8-7C18-4987-A61E-849518A8836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45A693-47E4-475E-AC45-C6261B54C56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DF4F8C-935D-43C4-BB59-2F951DB342E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D8467D-4FA5-422E-8F5E-A546E7B44ED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B1F20D-E3C7-4252-B6A3-D6E857C82D1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BA3400-D8F6-4F53-B895-79DB5EBBE32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8D6B44-2742-4C50-BC59-08126EC85A5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6DFDCC-B599-439A-B737-8C725ECCF9A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5DE57A-AFA0-46AF-91DA-901CEF8C042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215A9C-0C02-4C92-8501-AE0D0F35302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FC5A85-2DE7-44D4-BCB7-D9AEB7224F4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F4CE75-FBA0-4920-8457-5C18ED913E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15469A-15BF-45DB-8CA1-2C5D1D8BDE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CC3275-11B8-4834-BF8D-9A050573B6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790F7B-2C28-46DB-80AB-383F0E696D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0C8B9A-3A60-489B-B0F7-E2226A9906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6CA5B7-2F3F-4B30-B6CE-279EC335FF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6D4F04-774B-4C74-AA43-EAF383AE73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66350B-2A4C-443D-8612-6EF37E9405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561209-BFA2-4AB9-A540-3AB91335ED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706C78-81E3-4A6E-A9FF-B7A25F6BC4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F79CE3-01A0-4CA9-A900-0987D6F02C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AFDEF4-28C0-4067-AB58-BF952CF3D4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CB7FE6-33EE-4355-AB6C-7E4B14A2145A}" type="datetime">
              <a:rPr b="0" lang="nl-NL" sz="1200" spc="-1" strike="noStrike">
                <a:solidFill>
                  <a:srgbClr val="898989"/>
                </a:solidFill>
                <a:latin typeface="Calibri"/>
              </a:rPr>
              <a:t>30-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08BFE3-60FF-4AFC-99DD-295990A924F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8D1B88-8A08-49A4-8BDF-4D913BE5F2F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76B1B5-3E02-4B72-860A-1481083F871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8682C4-2A32-4D4F-8939-B622804931E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44F35C-A6DF-4B34-8FE6-9EE7D05447F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619DD0-D371-4675-BAC8-51C18C5C162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40E29E-BD52-45F3-807C-B2422EB2EFF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595E41-E05F-4980-993E-B8E5EF4123B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CFD643-6167-4E1D-8918-B055593531D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98581E-80C2-4538-BDA7-697A3FF2A1A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37ABB8-1830-40E1-B1C0-F9D3938CBBC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AD79CB-C8B0-4F16-8C16-9F2519FB0C4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3612CA-8559-437F-9EEB-0FC1C2762FF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14CD7E-3C4E-431D-BECC-F6FE0D426EB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6AE173-2C9B-4E4E-993D-853E99FB651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81D735-E686-477E-9B91-7DC11FF96BC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C1CD50-C7DF-49A1-BF17-2579E00011E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48AB00-73BB-47C2-8174-74931D15C3C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955CF6-A566-4F27-8AEB-8D00D8CD08E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739AD3-B103-4A7D-B370-85CC7193286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32468C-00DF-4121-A212-C7FBEF72798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5BA0E1-50FC-44FF-AB51-B4CA06CEC4F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C962B7-C2A1-4CAC-9DB1-98B952D0907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7F9CDF-AD85-4598-87A4-E3DA33783A4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19D3BF-CAB5-4782-BF85-38B10A9CA87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326819-4499-442E-8E63-4DE89BA2044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031B88-0135-443C-BF5A-6B0ABC6B3D1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927F0E-E370-431A-92CD-FC04AFF6906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B63133-6FA7-4048-8BEF-DCB09C25AFB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E6405E-F4B1-4860-A7BD-596C32E36C3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