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EA9D1-3B1B-4729-9DA8-3DAE8FCA6FC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50865-7D0E-46F7-8700-7C374200B0C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2D89A-901C-44C4-922D-191C4C2A0CF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9305E-2088-40FA-A767-1DA31871661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260F2-F9C3-4CDD-BCA7-01BC44E0347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A1867-54AE-44FD-BCCE-7F5E70B1858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51400-72E8-477A-A5A5-ECE4E942BAC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83714-03FA-49EE-8301-CFE85666959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AF94B-AED2-47D2-B11A-9C648F977CC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060C6-C064-4CD0-8662-B8E1732631F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6458E-7FC9-4581-B10C-7F824CFCA5E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AB9E4-95EC-4BDF-B1DA-7A13F0687BF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02B6E-6D35-47C8-8593-B418690582F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006FA-9E77-4D52-8EB7-0525A5E53DF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8449F-83C6-44EF-9D62-EE5ECAC06F2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EC44C-B532-4088-93DA-F66BC01613B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69D95-4E8E-4614-ADEC-77CAC3C7040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58156-8EC4-49B2-B40F-874A5B0EAC1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3AD6A-D638-4A90-96D1-CC7D28470B1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5D9B7-92DB-4F0D-8906-1CBAE621439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60FB5-7B33-4558-830C-41E009F0BF6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5E6DC-0F42-499B-90E0-392D002C901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9B29D-8A0E-4140-837B-F3155723EB2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A2D0A-A740-432D-ACA2-8FC73C8D533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DFEE8-33AD-4D69-B378-1949597E9CE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8C440-2E6F-475A-96FA-150AA230DFF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5D9B9-09FD-44A1-BDA7-4BF9B079708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04A5B-BAB8-41CE-AB4F-E586B3F56C4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880AAD-2BA6-4B8F-85C1-BF75EE1386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B09F7F-50F3-4891-9D20-755BD65E1E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7128A5-8A43-4C28-8526-2355DD3378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828BD8-8EB4-4D63-906D-1AD2F969A7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D99472-9BC6-43E8-B827-739A15276B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D5F2FC-C696-4D27-A6EC-F191F46C89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35CD77-C9B0-476E-8D41-00825390BE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B7DA6F-C3EE-4FA4-960E-9D23C4ED00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01EB79-E7DF-4796-B817-C061E8EC55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184537-A906-4024-8010-8BC5EB9C27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D27253-5FDA-4FE8-82B5-1C85F5D037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8EDBB5-64E1-4E25-9FAD-62746FA330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5F81C-39DF-4DB0-930D-F1422DCD832D}" type="datetime">
              <a:rPr b="0" lang="nl-NL" sz="1200" spc="-1" strike="noStrike">
                <a:solidFill>
                  <a:srgbClr val="898989"/>
                </a:solidFill>
                <a:latin typeface="Calibri"/>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A9840-242C-4869-A10B-8457A30AE73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7EB1F-E453-4F7D-A16D-F17C5ABAE0C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2F733-A40D-4E06-BAD5-15F5E451701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E1D93-1ADB-4A76-ADAF-783D8D99018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F30C4-4963-4A68-B0E2-0D334A6390B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F388F-82E5-41F5-8F5F-1CD145E49A3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714D3-77EA-45F2-AE6C-00589E69E4D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E9741-12FC-48E5-9A86-B6F608D1EE8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EC541-239B-4DAD-8142-6CF7807545F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8D2F9-F5EE-4E8B-A1BA-663C3DCA105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F65B3-71A0-4E82-A439-32EE34BA7A9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E5F80-79B9-449F-8A29-BA5B9A38011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4AB7D-AA0A-4708-B841-9D0E8ED7E42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0E8AD-55B1-447B-A247-886E180D1C0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E91C7-2541-4582-A29F-54045B0499E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3CA72-EA38-41D1-B751-10DF1805FDF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15244-D7A7-421B-8C80-6723532D7E7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A7939-8C6F-4988-B0AA-94F16D9FBB1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842FA-36E2-4A42-B9A9-A08EC971B9E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3322A-521E-40ED-97E6-C49A1ACFFDB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F03E4-A5E7-40D9-956B-A3D31BB1B34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6B341-A0A2-43A2-9F28-33AC863280B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72E3D-FBA9-4AB9-8ACE-D19948C9B1B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5B17C-36A7-4E9D-90B8-EDF612A772D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C500E-77A3-4AD3-96CC-169E08C75E4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29673-0027-4DA5-9203-98B7E91D63A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58783-1775-4462-86BC-8178AC7D9D2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84C72-BBE6-478E-A29C-8A2BB23629B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EC405-33A1-4581-AAD0-E4310E0D031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49CA1-3306-4D70-B5DB-91D60B1F684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