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DE8B6-864C-4561-89D2-653CA3C43FF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6BB8B-11C3-4AFF-9B9B-8631600A136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36CF9-29A0-4554-826C-7A612AD38AF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7F3CB-FDAD-4E69-B37A-89F95EC2652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9FC00-FB31-4AA3-A8E3-6852DBC6125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719AF-2D58-43DA-9FE5-EBF510A0292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5D893-C178-4D5C-8C25-E969804BC76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BF3D5-547E-4FA8-956D-02715450DFC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05880-AC3D-4E19-9A6F-2972AFC3E93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F532A-3367-4B1D-9370-EC2A3048BB3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7C7DB-EC09-43DD-BA5D-4C67BF224E9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27D09-1F90-4F55-A2F8-32CD64D4FFB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4EB73-2F65-4CC7-8122-C4F40705096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FFA65-A9F9-4182-B4D2-50FC4FEEE72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B1298-9321-441E-B21C-9A838F76B99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580EA-899A-4D08-820F-11804AF4273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21F85-2CB0-4A7A-84DA-4F341FE5C5C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1F49B-1C7C-40DE-8673-6EE2EF76C32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F452F-40A3-49A3-BE64-CE76FFD5833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66CE9-86F2-48AE-8BC1-037548A1E8D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6A664-7F58-46D8-8AFD-59DCB55794C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F813A-4517-4120-BDEF-90EE7A4D089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320EC-EE0A-4558-AB82-A18C75C7C72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CE557-28DC-4D97-A741-5DC3AA2FE2B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CA9A6-BF0A-47B1-BCC6-6D1F45E577E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A165E-AD92-42F1-AC1C-C5566092222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CAD13-3E90-4D09-A8E0-33144F09D56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44711-BBEC-44F0-B800-61D12A69E17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87E99A-04D2-493A-9A71-579245A50B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A8AA59-4EF9-4E6F-8F80-6980ED9F22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3AF114-8C89-4982-A712-9F046D7F3F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31EA1A-FA0A-435C-934E-7DB746CAA4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AF4AA6-4C5B-4954-8BDB-452CFBD82E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297EF1-0B06-4D7D-B9A3-49C6DD1E8C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D5BDFC-4B13-463F-A86E-CC88C84388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FD6841-780A-45DA-B0B8-8CE4CC2408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37CD67-DE1A-4DA6-AC84-BD464134A7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66E3DE-2B24-45B2-A58F-BED54075B2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BC2BB4-3A15-4592-80C3-945EC61273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706CD9-3CFD-415E-9CCA-BBDF8AF343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5200A-B5FC-42E9-B710-D7839690282D}" type="datetime">
              <a:rPr b="0" lang="nl-NL" sz="1200" spc="-1" strike="noStrike">
                <a:solidFill>
                  <a:srgbClr val="898989"/>
                </a:solidFill>
                <a:latin typeface="Calibri"/>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85EBF-3161-494E-B9B7-2D673212599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C9D14-EB3B-4021-A4C5-AFA491489EE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34CB5-2695-4F48-8893-5A9CF1AF7D2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179E1-E2A2-41D3-8F48-6F72BA96763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2868C-204D-4B58-8BD7-552A6581DDD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6F8B3-27CE-497A-9E64-A48A6C28332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CE465-A4FF-43AF-8EE5-E3E137B1E1C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F1DFB-2D05-406D-95F8-F8D7A2F0E24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FFD48-2BCC-4A62-A3B3-C6BEBC951DF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2CC0E-5A81-4193-B402-E966B104E91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DD42B-B0E7-4163-8C72-5011EE84E12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47BF6-1D44-4A2B-8ECC-2BB831DC177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DCB73-12D6-419E-99C4-3ECBC4AA810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AE3BC-38A5-4C12-8E99-AFE96F737A8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62EC5-DD38-407E-8A68-A095C01DB12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46F44-B32B-4FF0-B720-A1D85D3F2E9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B1A8D-10EE-4C45-8174-B28456DE052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634F1-2004-44F6-A878-727D0B4122A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D0EF9-E7B6-43F7-86EE-5D763DF7E40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FC6E5-D637-4347-B901-D983BA54596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71567-CA33-40B1-A63C-0A8511785F2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ADDD7-838E-4FEB-829F-A43EEDF1F55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A2D67-6787-4886-98D5-93DF0B93733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776F6-709F-4C9F-835F-DA0DCBB2FB7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21465-3342-4C8C-A452-A1A4DDD2A6E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B800A-15F6-4B7F-811A-2DC03CE0B31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9ABB7-7C0F-425D-AE78-0C2B3A2CB82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26182-1D6B-4727-AEF0-E60E0A5AF70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84EC1-089B-48CC-BB08-59D5A5AA980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C2A7E-B772-41F3-A62B-2D80C5FCC77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