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69EBB-2658-4C8B-8735-9A7194466FB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E29B6-0D64-4448-94D9-5BF49BB9E00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CC5A8-034E-42C5-A86E-E9526D1F17A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9BE46-A75F-40E6-8DBB-BD444C6B324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75F09-FEEF-4CAD-880E-12DD8943E18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0EB5B-7C0F-448F-A760-A5039A75583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34FFD-6BA2-4A57-B0DD-6F74E98E556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FFA53-C9E4-4209-B10C-237CEF1A7AF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66A1F-85E9-477C-BB76-3C26B106CE5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2C811-0C79-43FC-8285-CF132106938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802EB-B3EA-4550-8C19-08F298A07A2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7AB3D-79FA-4875-BB46-A050E27728E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1A6C9-F430-42FF-AE9A-4966963D960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39406-6E8F-4750-9F16-85AC41D64AF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48FC2-0BB2-43B5-958D-4DFA04D81C9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470D6-FF01-44C8-8654-5F8E66B923C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B457A-F9F5-4E59-922D-C5A3B6807ED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186F5-9551-4567-9312-1D8E37D2325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B16A4-A39E-45D5-997D-D0E45D8BCC2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D3A9B-938C-4021-88CD-608DD9E9F74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92DA2-69FA-4CEA-A893-494B3C1172A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79E1C-23FA-4B02-A0CF-99AF521EED6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CA6B9-5F6F-4416-9C22-E083B07A372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62C89-5554-49EC-BB86-E3D3333863F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BECE7-42B8-430D-8DB2-4DEBC6DE31D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1D7C7-4987-4B4C-BAA3-880C5BCA52A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6A0A3-BE03-4CE3-8CDD-F66CFE531C4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DED78-1E7C-4CD4-8C43-D3E531F4DA6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8A7500-36CB-4966-8196-00540FB482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2D9F3B-ACBA-4421-AA53-EE9D7D1B9F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BF08B7-F602-4596-A04C-302FC61FDA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FAEE8D-69CB-4A61-89D8-1DF517EA0C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ABCF4F-4986-4B26-99FB-9BBB97700F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63AE1F-5339-49F4-8404-44DDCEFE2E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5A28D9-EF48-4A67-9715-1297172317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2552FA-A1BB-4AF7-8C21-44C44228AE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E8DDCD-9402-434F-B49F-8CA81C3330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C981A9-E60D-4066-8336-273FAFA1D5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B17CD7-79A0-49AC-BDD7-7E3DC7B798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85B502-3ADD-4C20-A217-E08685A2F6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C8544-AC5B-43DD-982D-3C579898778C}" type="datetime">
              <a:rPr b="0" lang="nl-NL" sz="1200" spc="-1" strike="noStrike">
                <a:solidFill>
                  <a:srgbClr val="898989"/>
                </a:solidFill>
                <a:latin typeface="Calibri"/>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7FEE9-AA2F-4863-849C-854DAA99247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21EFE-D4FB-4D55-AFB8-4C3EE56D446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6291C-27A9-41F8-AAB6-9EB126FBD14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4182E-9515-4387-8362-406FC9840B8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7D6CD-0C4D-4C81-91E4-74DAA81919E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2E951-EB62-47FC-88FE-A27A60264DA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7C698-4767-4AA7-83B1-814AB3E401B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CF418-7849-4170-B4D6-DF0C8E7D71B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885FC-9180-4533-B89F-5E105C91361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716DD-6FEA-4118-90FF-8080F95A1F5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08A4D-89CB-46B3-9905-33492829EBA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89E8E-7F13-4168-8393-842E8E0C155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89CC5-8D22-4BCA-BE35-5261C0403E2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173B7-87DF-4FCF-BBBE-2B42E4D88E2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F139C-8210-4089-A56C-FEEF2FFEADF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F077A-A68B-4650-B4B5-8BC42202A2E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5629D-977F-4006-9100-568E80153B4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7317C-42BA-4FB4-9EB5-9E27ECD162F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90796-A2B1-4CE6-976A-9C25D0337F4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2960B-FF2B-4DDB-BA61-86405C92CBF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D2CBD-4E63-4F86-B077-4E685AAFAC4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AD2C2-EFD1-4294-A738-CF43E481E47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02B51-6BAB-4223-9B19-9A85D37708C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7BEC4-84A8-47A4-9100-9EAC72EDA2E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BD720-3629-4B74-A6A1-E1D0DCBD236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4D761-7932-493A-B302-01AE10BF940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39CE0-826B-489C-A52C-4D0CDB63445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8E471-455E-49ED-86D6-56B2F7554E9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AD0D1-90C9-46F7-83FF-005013724A0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CCA47-382A-4AAC-A270-EDB729CBA5F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