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D514-9572-43F1-A41B-0496CB2579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7D0AE-AB50-4FAF-8754-6243BB1134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C0D4-EB88-4862-BADD-BADC55F675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48B2-AFCE-4D7D-8C4E-97C95AD232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FAC4-56C5-4DEC-AF39-2CF722A699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22DB-1DC2-4247-9C8B-6B92BBA203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6B1F-B4F8-4526-AE9A-4FF54A2BAE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0A05-DC92-4A83-B690-6E2745164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BBBF-68D6-45C9-8D82-BA92CF6C99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A2CE-6C7D-47EB-9BC4-9B477AC352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6A33-5123-4E66-BC02-6B64AE23C6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4155-D82C-4F40-8635-F863CFD8E6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9653-02E0-432F-BF51-6B1F64964C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9B1B-35D5-47EC-9D94-3DCFF542E1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7CEE-B49E-4EAB-B897-03C4459E91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0EE1-AF41-433D-91DF-526C8C4CF5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8E01-1C17-465C-8339-8BBB998AC3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8AF9-A6CC-4934-831C-635E1DBBA2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CDC8-A041-4D80-9150-8EB77AE792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49D0-9636-433D-AC15-FE1753A92F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C1FB-EBA0-49DE-82DD-C13BAADED3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755F-75E6-4C60-A998-E0CD0C3DAC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F988-CE2C-4320-BDAB-CAB06BF617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4662-B70F-466D-9A19-3CBBB34CB0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EE84-6E60-4D8F-8534-A5D8D9764D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A50A-815C-48F2-B25E-234E336A3B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99E6-39C6-44E0-BEBC-F0F86B360A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A07F-623C-4A05-BAA8-484FD520AB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FBA27-C39D-458F-8A1C-4FEEA3632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0841-C559-42C0-9B2D-0F90E26CC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3BE01-254E-4077-8B92-7954823DA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74930-5E6F-474F-832E-E7BC31FFF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5DC09-6EDF-4FB9-AC20-28DF535B8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BBF9B-8F3A-4AE5-856A-290A57094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4BA7C-C1A2-429D-A034-BE2D90858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6D286-A9E2-40D1-B2FA-4D5829CE7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B0064-CCC9-4F9C-8B94-72E257A11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E9BF-38CD-4697-858B-E4B70E97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DA4E6-3893-4231-8F2F-32E6200AF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E7256-C0AC-47BF-AC78-AE17A8ACA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1D2E-A1CB-4731-82CE-94C033C9BFE7}" type="datetime">
              <a:rPr b="0" lang="nl-NL" sz="1200" spc="-1" strike="noStrike">
                <a:solidFill>
                  <a:srgbClr val="898989"/>
                </a:solidFill>
                <a:latin typeface="Calibri"/>
              </a:rPr>
              <a:t>31-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455D-20B2-4846-B41B-B48AF9137F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6615-3BF3-4308-9B14-2CE62C2498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E6C1-2B95-496C-A5FE-A940C62A07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B80B-4417-413E-83BE-2D17BE9871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AECF-67DA-48E0-B4DE-4D162E8DF6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1F63-BF37-4314-9813-4A14CDCD6E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E3F2-0274-4CFB-982B-87D1218A08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77A2-92FD-4537-BE68-B750358F92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4A9B-B239-4386-BEF2-F3ED35E7EB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19E7-D1B4-40E5-A867-B78F39108F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63A0-F125-4FF9-8D35-3766082F90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D97F-73E1-4603-A000-AA86995DA6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979C-6A14-495D-BDDF-E4517A6FD4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78BD-9942-4D96-928A-D5BD48BA7B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12E5-A47B-449F-8FFC-31CE1CC027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1841-E4A5-42CE-BA91-6F238C1159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C64C-18C2-4276-A834-F1086A3F7A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19BD-ACBA-4482-9DE4-848087CFAB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C948-89AE-429D-8439-8A122C0C95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1360-2EE8-4369-ABF3-E45D83C76C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ADDF-A99E-4895-B635-A9DAF1B26D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0900-5601-4611-9BFD-5581359D31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C84D-976E-452B-B3BE-6B330860F3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622D-B08F-4489-8BCF-93CCF90795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E9B3-DCD0-4B6A-B591-C1D0383C2F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798A-897B-481A-82DB-9B944946AD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38F7-9043-4EA2-9EEB-BDEAC79140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9EC6-BA15-4F9C-B2ED-D51845D891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4CCC-CAB3-4D2B-8F99-712CDD753A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0D6C-8BB7-4C21-8AD4-3167FD610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