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FF2AB1-A811-49AE-928F-6DE3E6CF0CF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AA228A-6C5C-4E8D-AD25-FA29A14D903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DAA5E9-5005-4CF8-870D-2F2BCC6B803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97A904-7FFC-4EE1-8590-3B639FCC11B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0B5879-4E9D-43B9-8FC5-DE14ED03B0F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E85F29-D3CC-44FB-9F13-98B1B0AC803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950B6D-62ED-4A77-8A08-036914D042C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618DD4-1426-446E-8AD9-A633DF01E7C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1619B8-7772-4206-8128-F59BC4DD021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53F643-0156-4231-900C-21C708FDC16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FF0BC0-5A2F-4D36-9FF9-EB4755BDA0F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1B14A5-CF90-488E-BB30-8BFF79A21E7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0F74E7-2DE9-4400-8CCA-C36DBD89B7B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812F3E-340E-4BB9-A745-512FD15B091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3082D4-449F-4069-8CE1-C86CB158137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0FAB42-06DA-496A-BB2C-5D33FE4274F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C5D50C-572F-4EAC-83AC-792058FF8B1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1585BE-8457-4473-B8BD-A41D6CC675F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3B345B-6893-497B-9FED-12EF16F4C4F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D6EDB8-5F56-4F81-9AFD-528837DE364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56DC27-C8B7-49D6-AEDA-F4182594E10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F2A47C-F9F9-404F-93CC-D50E73B796F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05AF08-24B0-46C8-8EB3-BC76C60E758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4A2743-2F97-4A48-A7EB-6505033CF66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A4D69D-227C-4396-BA01-FF52BE391F3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ADE0A3-1843-4937-9BE8-07211BB27FE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9D1DFD-EE71-44F7-AC51-3DFEA1E43AC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DBF8C2-21F5-45CD-992E-50163CF4483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86B98C-73D4-4B1E-9F35-2BC19AD3B1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DA77DF-55E9-4E01-AADC-81FBB97C6E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260266-7632-4048-9504-676C5126FD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F364D9-E455-43B0-9CB5-D4A22F8C13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86D427-5A21-4C90-8872-F8B78335C4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47BA25-B362-4092-8FB7-C3181DF02C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A06CAA-3F3C-40B9-886E-70706A164D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892C31-E575-4D59-9350-0298860C82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4750F7-D0F8-4FCE-B6AF-E086895904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D82EC1-91F5-462A-BB35-358CB29806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41FD63-B553-492C-A891-4445C48200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6703B1-6850-4E99-AA57-E3F5419E59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83448C-CCC7-42BC-99FE-5BE127774ABD}" type="datetime">
              <a:rPr b="0" lang="nl-NL" sz="1200" spc="-1" strike="noStrike">
                <a:solidFill>
                  <a:srgbClr val="898989"/>
                </a:solidFill>
                <a:latin typeface="Calibri"/>
              </a:rPr>
              <a:t>29-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4A2EBC-2D6A-4434-AD6A-D576E91C73E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D03905-3FCE-4F30-8842-548E9E7CABC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F764F8-283A-4460-83C3-C967AA5C8F2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81A87F-B06F-4FCA-90C1-D5B10FE104C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81D934-DBC6-4571-8E56-00D458F51B2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0052DD-ED3F-4E57-9A74-5E64FCCEE44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F0C078-A38E-4C00-ADB0-070C2550F25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C3F640-CA34-4BB6-AA52-87BA387A05F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BD7FDE-B680-41B1-A37F-EE60B12A68C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B7F3F1-61F8-4FF7-985E-C24FDBB0924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299646-681C-46BE-A8B5-1962366C4F7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72C685-713D-47B9-AB2D-8C6D6495C4F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98A4A2-FA1D-482C-9285-1EEB0236B6C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9CFA72-1937-49C2-A337-D5EC5D43EB2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7592A9-5E05-4A32-A1E0-0F8023C66FB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072FA0-BF6F-46F8-B210-EA592D0884B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19A610-6A8B-4E53-A84A-9F7FA3AD4CB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C7717A-08DF-4F88-B599-C85DD86A243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7DC1F2-D394-493D-9AF4-E55BAF6CA8A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548D9D-3810-42C9-9B41-4D2DC243D98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4A6960-8D0D-49E5-80F1-35234866577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B57DD8-66C0-42B7-BFF0-D15DF10F722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3EBF25-BCAC-4017-B304-EADD9A0E365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B8028B-A41D-40AB-92E4-F287A1C2810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8D80F2-7EE8-47BE-A87B-C9BC1E7F331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AD5E9D-8F49-423B-BF23-202B7FD4109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48120B-F7A4-425F-A46C-3E6EC19ECBA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64A70F-E9AB-43CC-B470-EB1F09AD414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2F677C-FBF9-446A-AB41-A3469905AE7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6FCDA9-D204-4284-95AB-2393080087C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