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F8F1A4-9969-4687-8A21-F9CF9DC5183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59B902-01CC-4A1C-9600-FFD21FB5EA1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15E1BD-A952-47CF-BBD7-A3BE820745C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646A81-B925-4CA9-B9F4-36233A79A37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732352-B88A-4C4C-8850-81836BB5DA7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6559F3-25D5-4CA6-B74E-6C7DBE71243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71A106-56E8-4A87-8038-D455A218A19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343FB2-B6E9-4091-A6C5-01D61C5FF5A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3B4D1F-87DD-43D5-A1FB-33D3645120A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5E7797-B800-41D6-B7CD-A8A0852EB7B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7019B0-649E-4EF7-9AA7-04A1A9CC77E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33BF53-435B-445F-864B-058AEEC7296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70885C-90C1-4A0C-8443-8D84E5EDB89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5E8383-D381-4CBB-88A9-CF73415C85E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E81841-5C2F-411D-957B-706987554BB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8856DF-9D84-4419-85B2-C7F22510233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44ED4A-97DD-4108-9342-30B03B51491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0AD133-7577-423A-99AC-2A73EEC0F08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6CEB67-FD1E-4391-BE9A-A0BAA45257F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A8E601-A46A-4880-B7BF-57D2FB5B5F6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ED24E4-14A9-498B-9036-BE5F24F76C4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6361AF-8B3F-4AFF-AF34-4340A784A8F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E03E3D-C1C9-4A4B-B80E-56092FB8E42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F6C141-6C98-408D-80CD-2A8E2DEE10F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AACAB2-D68C-4434-9EA8-D64C3472350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ED26A5-AE61-477E-ADB0-E796C41B01A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D1D8F0-F319-4BC5-B4D9-3714258F358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D79737-3D5F-4008-9AA6-29B9F3A849F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2626F6-50B7-4881-84E8-313D8385BB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F4A564-49B3-4E53-AFC0-21C0F20F7B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7E2E3F-B7A5-42B3-9E08-BDF4358812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D1F17C-2F58-48FE-BDB6-E80DBA36EB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0E5621-F631-4638-8AAD-90D136F27B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69514C-A5BC-476B-809C-B0F3B3628C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7D728D-47E0-4659-ACCA-31108DF16D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049329-C6CD-493C-9F94-AF206E60DF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6B1020-9426-4E40-A3B8-2AAADF6A04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C6C791-F271-49B9-AE1B-BDA5C0BC05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148803-355A-4A2D-AC5A-FE00A37856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774EB5-95B8-4AEE-9FBA-AC0FBDFC64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010711-66D0-4692-ABD9-CBCA16FE5256}" type="datetime">
              <a:rPr b="0" lang="nl-NL" sz="1200" spc="-1" strike="noStrike">
                <a:solidFill>
                  <a:srgbClr val="898989"/>
                </a:solidFill>
                <a:latin typeface="Calibri"/>
              </a:rPr>
              <a:t>28-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20608C-B057-45A5-8C7B-4A66D7E6961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EE8D79-45B1-4BC8-B415-757C320352E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2FBC42-6515-4C5B-986D-67C68EE739E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605939-5DF1-4964-BB1C-45AFFC6C24A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45504B-3C78-429D-9278-1C510F80AA3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7A6249-6A0B-4DF0-B3C1-6BFC767CB61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895C0D-F9EA-443A-9972-DB04AC2F984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E8D3E3-45D0-4C45-ABFF-5F2F6D64C81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601258-D771-4215-ACC6-BC7D4FA38EC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AB9C9B-9879-4ED4-BEDF-80B4F0A7FC7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9FCE83-7754-4EF1-9D12-2E7147FE50D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0B8445-A2AB-41A9-9AFC-87FF52E9FB0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A68E27-22A1-41E8-8F26-BD1CD9FDDD5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FB198B-97E1-4038-BF94-A3491438148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FE6FA2-A3CA-4C05-B417-64ECA114E67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857962-C94B-43DE-AD6C-E14884F6526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1F8A6B-191B-4CB6-8855-FB224541146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9EDC14-A97A-447A-B245-08210FA8FDB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F71686-DA85-4CE4-BEBB-06C79825718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6D6630-B85B-40E7-89BE-98F4F5C09A2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680294-9960-40E2-A1C0-A0499E8A19C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6BDD1F-8159-4057-B3DE-E85D33C8C72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DC5689-8DF5-4487-8DB3-8B0D292715D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354437-2797-4EBF-8B6D-D54CEC3ABBF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3F2821-6770-4153-A84D-5647489E856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CC3AE0-8E51-4285-91A4-7BF6B9AA63A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3172A5-3F22-46E2-8B11-820B7F557A1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242BC3-7BBE-44A5-81CF-73AE5179215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340729-FACE-45C5-9DD0-61D27AFD262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C1D2A5-66A5-44D1-A11D-5F2A0D4383B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