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7AEB55-7484-4F67-9C2B-FE033F89F54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40D295-795A-45A0-A1D1-B7B5B8C6EAE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185F81-8E4B-46C9-B018-FCC171DAF55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2BF3D7-C865-4494-9FF3-39B95A39908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6D4F31-3B3A-407B-8E41-B6C861504C8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4B1375-7290-4528-83FB-CDE00FCB0EA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6B3C9A-1423-46E3-AA17-DDD6777AA74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D26E81-F7FE-4CEA-B531-C54254BD1BA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63AD73-CB9E-4F4C-8526-6DC5EADCA58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E5EDD9-D0AD-4882-9233-F70394AE17E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96B83A-169C-4E6D-901F-6F1EEBB248C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B40CEF-18BD-4045-A157-D0DD8D0247D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7C843C-A930-478C-8D4D-AD3495E3C53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8191BC-BB5D-4EEB-A264-ABD7F8B747C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8B22AB-804C-478E-93EB-2C250A3BBD6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59177F-50C8-44EB-93AF-2D143B1EDBE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32191B-6033-4D92-9E70-151600F677F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54832E-07E2-4073-BE66-29D7C250F1F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C19861-1EC8-4A58-A302-16A594C26CF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EF6AC6-5BFF-4A82-B133-ACE6F7B518B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0B8157-4A5E-4DA2-AED0-3636F0D50DD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087730-6D73-438C-B699-82D85A19C40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056437-77BB-46F7-9D1C-F429AADE919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E19306-BA5A-439C-BC80-42301232301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5B1B27-22BA-489E-A526-AAF2E5F3987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C6AFF4-BACF-4802-B8B3-8A740BA4504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015BCC-60D2-4375-82B3-A6381B73C01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DC55CF-9F84-4289-8464-8828DC880F3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9E3355-7C8F-4DBF-9240-B9C6B0D477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99AED8-8058-4838-A5CF-29C221BF6D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DF0774-84CB-4655-8FDB-DBF3008160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00D1A7-59FC-4FFD-8E13-05A9D91D6B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89EBA8-029D-4B0D-AD24-D519147F24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1BD9FD-1660-4D62-8DB0-05583EEA61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48983E-2AF0-4AD8-9367-B5D1EB9DFE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A3B5F4-1FE2-485C-B9BD-29146D7334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7A52A0-1C63-493D-9427-67ED5CB7CC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9DF70B-1116-4C14-A306-2A389FE736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61AE45-C048-4656-8FAE-1FA29CBA9A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84351A-6530-4363-8822-869883055F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B24E22-25D1-4D15-9F12-F6EEE571C3A6}" type="datetime">
              <a:rPr b="0" lang="nl-NL" sz="1200" spc="-1" strike="noStrike">
                <a:solidFill>
                  <a:srgbClr val="898989"/>
                </a:solidFill>
                <a:latin typeface="Calibri"/>
              </a:rPr>
              <a:t>31-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0AB232-1069-4314-B4DF-BE16E2E2692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C28521-0B10-49FC-8073-70E882987E6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1E0636-A018-4438-A2D9-057F8803019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C97555-A139-4EC3-807A-CACAD99A056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89369D-4745-4ECA-9A27-E6D50C8132C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A41714-61F0-4D45-B812-93F8A9E905C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8AA6D6-5BEF-44B1-9824-BAB162F668F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654648-4FD7-4F9A-A7C5-96CA9FA43BA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C4E645-2425-4A0B-9357-9EE7D6E7406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99D08B-69B4-4B05-8D79-C8026ED1801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536EF0-4F58-4D35-B2F7-ACCCBE75979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E14FCC-A55C-4B46-9DAC-8D0C6988C54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896F89-3C0D-43AE-9C80-8F840A829E9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EFDD18-25DD-49EC-8275-F09EC292EA3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889BB2-E0F8-4970-B525-2BDC0E3B859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C5ABE9-43B8-4E39-900F-47818679CB2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EC1688-2B4D-4B77-9E0C-08C76C2E554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F082D1-6F23-49DC-B81A-3557EF7E43D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3D15EA-8A30-4F34-B79F-313FB28F74F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4CED5C-7700-4703-BFAB-54801AFF913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439731-621C-4E51-8D2B-D53286CDB37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C8F9CE-292C-4FFE-ABC2-FD086216B57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32475E-879E-4FF1-95A0-D549655F359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AA3E64-0CC5-44AF-9A6D-F665FFB0B2B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A737BE-1030-49BC-88AF-13F43A86403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F78238-8960-4F0C-AA4E-7BF26C91AB0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10E257-8608-4E85-A029-26E6A773582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4302F9-BD28-4FC0-A691-B12F4EC028E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5DFA32-68DB-42C3-AC4E-EA586C8BC63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9EE8C9-F691-4797-B41B-68207E7E149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