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771C67-D56A-44D4-97AE-279422891C4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3947DA-9473-4739-BE6C-253479CD79E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C27B69-AF66-4E63-80DC-481BA6B6A12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B7E08E-2AD7-4E57-82A0-04003536FDC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037232-21D9-4418-A7AB-04BE5A175F4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6DCAD5-EAC6-41C3-AC0A-2294681B952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CB289C-6D5E-4D65-9C20-242E455EFAE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4F3E69-A447-4B0C-AB87-6DEE06A9A32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BE5E2E-C77A-4A89-8CD6-010EEC18214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D81572-CB3F-48B5-A7A5-13D4A29756C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C2AFAB-19C9-4531-98A4-CDEE468E444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9FEDC4-8FFC-432B-A212-385280EE174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68A1DB-9E76-41F4-837A-7FB79587616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BA520E-9BBD-46D8-AF46-99D71A658BB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BE42DF-4FC0-4662-8E2A-FC38460B562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BD4588-B829-44F1-B876-4BD06CD1AAD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A4D8BD-00EE-409A-A228-4A5110E884A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8A7899-5DFB-4F17-92E0-23992634F3D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D4BCB9-7314-4EAE-BCCD-E4CD50CC4B3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60B402-D5B6-4D0C-B6CF-538B23661D4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C3BA3A-279D-4BC8-89D0-D961B6DF378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783894-C4E7-4AE9-9C2D-8BE3DB0AF17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607A05-43D4-4B07-976C-38BCB8C9DE8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6FE1E9-0FB7-4D27-8FFC-53B8EB1D74A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60F3B2-5FCE-4525-BEA8-03AB0DD073A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806BB5-FCE6-4189-86DB-7A96ADBE942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AA4736-C4F9-4FA1-B460-442837863ED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44C9ED-09DE-4F8F-AC44-028C3F63A9C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6A85D6-A202-4C4E-AA32-4AF259DA66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67600D-8261-4C2D-A349-62D194037B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BF93D9-B703-4316-A9AE-60E31970EF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938CAA-3ECE-4F39-838E-08F890F77D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C6E3B6-13DF-4017-B80B-4E929DC03C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42C4BE-7F13-4C70-8636-49D6454A1B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A0C843-1DF8-4227-AEC4-ADF878C470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11F8B2-E8E7-4D91-9201-16BA6988E9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DA652F-D54F-4A63-865C-6F3D85E6E5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46F5F4-86F4-4E6B-A250-06357638C7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802E9A-95DF-47B6-8856-5BB0E1319D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8DA7A4-8030-4EE9-AD20-42D7C5D3A1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E65DBE-7402-432E-83CB-E85B8520110F}" type="datetime">
              <a:rPr b="0" lang="nl-NL" sz="1200" spc="-1" strike="noStrike">
                <a:solidFill>
                  <a:srgbClr val="898989"/>
                </a:solidFill>
                <a:latin typeface="Calibri"/>
              </a:rPr>
              <a:t>31-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46445C-D11F-4B4B-9FCE-1E5CD58661A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300131-3FED-4625-87CF-A10300A62FD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324586-C3F8-4A18-8D67-B87D7F140CD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92B49E-B2AD-41E8-8899-31F783F1459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FFC51C-4E6B-47AB-864C-B3A1BAD1A02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207CB8-E1BA-4B52-A804-439F0362018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110152-8657-4EC7-919D-4607072935E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B2C772-7857-43AC-9445-F2CBDEA432C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03514C-5B6E-4C22-B153-61CB52746AB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5CB538-6036-43A5-AC57-BF8859337D7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74700D-EE4F-4E80-97C2-EEE9855212F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6FC75B-6982-448B-87CA-393F293A32E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6BC533-24AF-4503-84A4-27CCA97261F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7505F0-2894-4C06-AAAF-6E0D7A27B2C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2AF465-429A-4033-B773-73F76BE51EC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051EFA-A35A-429B-9326-2605B653218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8C2B50-3D15-446C-87A8-D3335E3689D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6B8F57-BF34-4E9A-97AC-3B48ED65E18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5A7C93-E94C-4DED-997E-645B3FD6349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4B2CF5-B7E7-4680-9183-DF828E2C7C8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E24901-7B07-4A22-9B44-7B5E48A4A51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13F7BC-2FE9-469A-8F2F-DE356DD7D27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AB6EF6-521A-40A4-B663-3DC5436C07F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EBCBDB-D77E-4623-B831-BB09AF5FA8D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9FE4AC-FB8A-4481-8770-5F177FC583E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C5F52A-02E9-41CD-A02A-3596936E95D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8DDEA7-70F8-4746-939C-A1386E92089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C59D9F-3506-4553-BB97-8FF75A92DDC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15E2D3-ED14-44CA-B429-C729EA86C94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45656B-F31A-4C67-86CC-577B7D84296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